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D88E-63E3-4292-B8FF-28423A16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75804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81D5-CC0A-47A5-A564-F7A43643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96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D338F-FCA3-4DDB-A366-08062B73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5532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064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5532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064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0DCD-2292-4535-AC46-C76D3175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887B-89EF-4FC5-A625-C4916CF7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1580-E810-4DE8-8A57-6B22F38B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D986-B668-4873-B537-E2BE61D5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0D9C-6D9B-4164-A6A5-A0182A97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97B0-D869-443D-943D-E427CDF2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2184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2C1F-30A5-4FBA-85E7-49B14777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BE50-877B-43AB-8231-18E00B3F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82887-2482-4323-A52C-54CBC777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996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E0D6-8EFA-49FF-A984-A3D23138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C193-4CF9-46FF-A328-6D5B85CA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75804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4E8C-698E-48DC-AA54-FEDBEF25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996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8B11-8CB7-4B02-A305-1CC5B705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5532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0640" y="112500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5532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0640" y="3758040"/>
            <a:ext cx="2909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9879-6273-4B2A-A795-624EFADC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0DA7-B905-482E-B335-367FF00A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677F-6905-4EF4-AAB4-972C76EA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D3C4D-4EA7-4F83-B1E6-4EC3C957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21844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6687-67BA-4B94-8CB8-260E9BB3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0262-EDCC-49D0-86B1-B3E286A8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960" y="375804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214D-09E2-4BA6-8334-83E103D8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8218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960" y="1125000"/>
            <a:ext cx="4409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58040"/>
            <a:ext cx="903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E69F-6AD9-4197-A35B-4B763BA1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91B5-3540-4AB0-9886-B04D22B712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-27000"/>
            <a:ext cx="9144000" cy="333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7"/>
          <p:cNvSpPr/>
          <p:nvPr/>
        </p:nvSpPr>
        <p:spPr>
          <a:xfrm>
            <a:off x="-32760" y="-334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lkalmazásfejlesz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BA0D-9E2D-4C69-B4E9-AD0B11E3D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30A0-1811-4023-954A-68C788119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ffffff"/>
                </a:solidFill>
                <a:latin typeface="Arial"/>
              </a:rPr>
              <a:t>Alkalmazásfejlesztés</a:t>
            </a:r>
            <a:br>
              <a:rPr sz="5000"/>
            </a:br>
            <a:r>
              <a:rPr b="0" lang="hu-HU" sz="5000" spc="-1" strike="noStrike">
                <a:solidFill>
                  <a:srgbClr val="ffffff"/>
                </a:solidFill>
                <a:latin typeface="Arial"/>
              </a:rPr>
              <a:t>gyakorl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BookShop - Jav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NT disztribúci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szítsük el az alkalmazás disztribúciójá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d feladat\BookShop-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sktop alkalma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d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d d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ölje a gyakanyag helyét – ahová az alkfejl.zip-et kitömörítettük – a $GYAK$ változó (kabinetben ez a D:\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jektek be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clipse indítása (kabinet: C: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clipse\eclipse.ex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le/Switch Workspace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$GYAK$\alkfejl\feladat\BookShop-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le/New/Project…/Java/Java Project From Existing Build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$GYAK$\ alkfejl\feladat\BookShop-java\BackEnd\build.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$GYAK$\ alkfejl\feladat\BookShop-java\Desktop\build.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$GYAK$\ alkfejl\feladat\BookShop-java\Web\build.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jekt függőségek beáll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obb klikk a Package Explorerben a Desktop-on +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ava Build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0" lang="hu-HU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Add: Back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Libraries </a:t>
            </a:r>
            <a:r>
              <a:rPr b="0" lang="hu-HU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Remove: backend.jar (ne a statikus jar-t vegye figyelembe hanem az aktualis forraskod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sktop deb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2500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álasszuk ki a Package Explorerben  a Desktop/ src/hu.alkfejl.bookshop.view/BookShopGUI osztály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un/Open Debug Dialog/Java Application-re duplaklik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oldalt felül az environment tab alatt új változót vegyünk fel a New… gomb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me: BookShop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lue: $GYAK$\kulso\db\bookshop.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ia számának hely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C782-3A78-4781-AC4D-1E00FD4C2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9:50:30Z</dcterms:created>
  <dc:creator>Vanda</dc:creator>
  <dc:description/>
  <dc:language>en-US</dc:language>
  <cp:lastModifiedBy>hpeter</cp:lastModifiedBy>
  <dcterms:modified xsi:type="dcterms:W3CDTF">2012-04-26T09:32:03Z</dcterms:modified>
  <cp:revision>831</cp:revision>
  <dc:subject/>
  <dc:title>Fejlett Programozási Technikák 2.</dc:title>
</cp:coreProperties>
</file>