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4158-EDAB-40FB-A1F4-4240DD2C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75804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F478-A278-4378-8B0D-ABAC9DDA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96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7DF0-3BBA-4FF9-9A26-E16A615B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5532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064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5532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064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8EEE-B6BB-4D58-9155-A1D5F287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26D4-3727-4277-A99E-B94A088F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A791-304E-47D5-9D38-C30111A1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50D0-A478-49C4-943F-B15E2BC0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5733-D4D4-43E0-8E2B-4352604E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ACD9-2540-4E26-BD56-9C032E70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2184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CB5F-02B7-4E60-8AC5-CB222604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5EB6-E55D-4F01-AA89-355D1702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1B4E-010E-4068-BE12-5C60FC2C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996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826E-0E9F-48B5-A9DB-C44FFD18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BBCF-85A2-47FD-92B8-5830F46D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75804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B82A-2DDB-487B-9547-684F29AE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996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0ABF-95F0-4866-970D-7B3D717E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5532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064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5532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064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E2E3-C154-4A87-8F03-5FB8E1BD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092C-96CE-4050-8EE2-E9F44361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5E38-76AB-42EB-96D8-9960C42E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F9B3-C810-4B4B-8584-5F78D753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2184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11C1-9A24-49FE-9150-00FC35F7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1532-CA4E-473B-9AFB-03DD2EDA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96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5A5D-7CE3-4714-8B7D-8D71CDA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6FFE-F9C1-4B8F-B943-452C3258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8902-50B2-43F9-B5D1-1D60668D37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-27000"/>
            <a:ext cx="9144000" cy="333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7"/>
          <p:cNvSpPr/>
          <p:nvPr/>
        </p:nvSpPr>
        <p:spPr>
          <a:xfrm>
            <a:off x="-32760" y="-334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lkalmazásfejlesz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8DF2-1B9F-492A-B483-A05766233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BFAE-E174-432F-8B7B-483E102B07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ffffff"/>
                </a:solidFill>
                <a:latin typeface="Arial"/>
              </a:rPr>
              <a:t>Alkalmazásfejlesztés</a:t>
            </a:r>
            <a:br>
              <a:rPr sz="5000"/>
            </a:br>
            <a:r>
              <a:rPr b="0" lang="hu-HU" sz="5000" spc="-1" strike="noStrike">
                <a:solidFill>
                  <a:srgbClr val="ffffff"/>
                </a:solidFill>
                <a:latin typeface="Arial"/>
              </a:rPr>
              <a:t>gyakorl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Minta Z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 könyvtá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01-Java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– javas felad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02-Csharp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– csharp-os felad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03-XM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– XML-es felad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kulso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– adatbázis fájl, kulso libek,pl. adatbázis kezelő jar, tomcat, stb. (csak az van benne ami kell a zh-ho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bázis szerkezete: kulso\db\feladat.d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eladatokhoz szükséges adatbázis már létezik, és fel van töltve érték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ia számának hely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5096-CD66-4794-A635-00548E5CF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. Feladat -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Új számítógép felvételére alkalmas dialógus ablak létreh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ábbi screenshot-al kompatibilis felület kifejlesztése (view.dialogs.AddComputerDialog.ja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ia számának hely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8EF-D82F-4228-AD0D-485F4B439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4175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. Feladat -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ype ComboBox-ot töltsük fel a ‘Notebook’ és ‘Desktop’ értékek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anufacturer ComboBox-ot pedig 3-5 tetszőleges számítógépgyártó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duction date értékéül csak a következő formában megadott stringet fogadjuk el: ÉÉÉÉ-HH-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K gomb hatására mentsük el a beírt adatokat az adatbázis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cel esetén zárjuk be az ablak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felelő bean (model.beans.Computer.java), illetve a mentést végrehajtó függvény (control.Controller.AddComputer) már meg van valósítva, csak meg kell hív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. Feladat -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eretrendszer használata/fordít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dítás után a Computers menü New Item… almenüjét választva felugrik egy üres dialógus ab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eladat ennek a dialógus ablaknak a kidolg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rdítás ant-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d fela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v.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d 01-java\Computer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. Feladat -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uttatá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d d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clip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clipse ind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orkspace átállítása -&gt; D:\feladat\01-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w Java Project... -&gt; Java Project From Existing Ant Build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:\feladat\01-java\ComputerStore\build.xml kiválasz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uttatás -&gt; control.Controller.java (new Run/Debug config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Működési feltétel: ant-al fordítható és futtat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2. Feladat - CSha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bázis lekérő művelet megvalós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eladat a BackEnd projekt Model/DAO.cs osztályában található GetComputerList(String type, String manufacturer) metódus megvalós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tódus egy Computer objektumokból álló listát adjon vissza, amiket az adatbázisból nyerünk ki – csak azok a bejegyzések szerepeljenek a listában, amelyeknek a type és manufacturer mezője megegyezik a paraméterben kapott érték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Működési feltétel: Visual Studiobol fordítható és futatt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ia számának hely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AB74-A106-4418-8F70-057FF4B07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2. Feladat - CSha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ia számának hely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1CCF-940D-4354-9002-AD0FDDA1A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285920"/>
            <a:ext cx="829152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Web-es projekt indulásakor egy lekérdező felület jelenik meg, ahol a lekérdezés paraméterei állíthatók be, ezzel hívódik meg a lekérdező metódus, és a lekérdezés eredménye egy táblázatban jelenik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eladat ennek a lekérdezésnek az implementálása (a meghívásról és a paraméterek átadásáról a keretrendszer gondoskodik, valamint a szükséges Computer bean már meg van valósít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3.Feladat – 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125360"/>
            <a:ext cx="9036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Működési feltétel (env.bat-os kornyezetbe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xslt usercards.xml usercards2html.xsl usercar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XML-ből két HTML táblázatot kell készít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lsőben a Notebo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ítógépek legyen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sorolva, price szer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övekvő sorrend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ásodikban pedig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sktopok hasonló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ndez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ia számának hely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CBEF-E1C2-432A-8258-3663A4AF7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38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9:50:30Z</dcterms:created>
  <dc:creator>Vanda</dc:creator>
  <dc:description/>
  <dc:language>en-US</dc:language>
  <cp:lastModifiedBy>hpeter</cp:lastModifiedBy>
  <dcterms:modified xsi:type="dcterms:W3CDTF">2012-04-26T09:58:43Z</dcterms:modified>
  <cp:revision>643</cp:revision>
  <dc:subject/>
  <dc:title>Fejlett Programozási Technikák 2.</dc:title>
</cp:coreProperties>
</file>