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8C29-3B16-4214-BD53-F4A14B53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779B-62D7-4444-A6C7-DFE31802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7998-CDD8-42C8-BFB9-400064AB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5532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064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5532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064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34A9-0F73-4EAE-95D3-74C603B5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3671-6E40-4AA1-8E6E-73A858AF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1AA6-800E-4B5A-9E1A-116945B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51AE-44DA-4973-95F2-7C58C98E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5F1B-5F6A-402B-AAE1-58033CCE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20CF-9988-4EEC-8385-196571CE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2184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4463-E08C-473E-A99F-9D94A21F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CCE7-AD09-4D38-83E7-521CDE58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ED88-112F-4C1C-98A2-B4C5CFAB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6758-7C99-412D-AEA4-8C53456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7492-E60E-4F3D-9B08-D8DEE62D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51CD-1703-4FB5-A4E1-56F99210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8094-1D31-4EEE-AAF8-BC49B179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5532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064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5532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064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F867-4429-443D-AFEB-6C0E88C9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AF46-D10F-42F6-8814-9039A12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706F-73AB-47CF-84B4-4C6C2DAA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CDFE-E852-4184-A42D-3F8F9FB4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2184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4723-AC0F-444B-A6B1-54A9A6D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058C2-299F-4DA2-8CBA-35386D16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D814-F199-4F71-B7D1-7572C4B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CD6E-E927-4336-A0A8-43F43E1D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AE9C-1E6F-431E-8D7C-CC0601AA1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-27000"/>
            <a:ext cx="9144000" cy="333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-32760" y="-334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lkalmazásfejlesz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364C-2655-4F84-B624-925283492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64BC-A362-4A09-B1BE-EF0AC269F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ffffff"/>
                </a:solidFill>
                <a:latin typeface="Arial"/>
              </a:rPr>
              <a:t>Alkalmazásfejlesztés</a:t>
            </a:r>
            <a:br>
              <a:rPr sz="5000"/>
            </a:br>
            <a:r>
              <a:rPr b="0" lang="hu-HU" sz="5000" spc="-1" strike="noStrike">
                <a:solidFill>
                  <a:srgbClr val="ffffff"/>
                </a:solidFill>
                <a:latin typeface="Arial"/>
              </a:rPr>
              <a:t>gyakorl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óba ZH feladat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. 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ava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gyfelek végzettségére felajánlható értékek (Qualification-ök) tárolása adatbázi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lamint tetszőleges elem tör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új menüpont a Qualification-ök menedzselésé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lamint az Add Customer dialóguson a legördülő menü tartalmának dinamikus feltöltése adatbázisb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CDDD-4C85-4742-BBB2-A4A22D5BF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2. felad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# 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gyfelek végzettségére felajánlható értékek (Qualification-ök) tárolása adatbázi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jelenítésük táblázatos form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vábbá az Add Person oldalon betöltésük a qualification lenyílóba (dropdown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3. felad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szíts egy olyan XSLT transzformációs állományt, amely a feladat\XML\customers.xml-t a következő html-é alakít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X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szíts XS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émá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s a fenti XML-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xsd customer-schema.xsd customer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xslt.bat customers.xml customer-schema.xsl customer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932360" y="2543040"/>
            <a:ext cx="3311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egítsé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eladatokat a következő projektekből kiindulva kell megolda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ookShop-java (fordításért lsd. BookShop-java-forditas.p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ookShop-csh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14-* mappák a megoldásokat tartalmazz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gyes feladatok elvégzéséhez szükséges lép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kfejl-11_zh_prob_gyak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H-n ilyen nem lesz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qualification-ök tárolására alkalmas tábla létrehozásához a kulso\db\bs_qualif.ddl használ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qlite3 bookshop.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read bs_qualif.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eladathoz csatolt bookshop.db már tartalmazza a tábl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9:50:30Z</dcterms:created>
  <dc:creator>Vanda</dc:creator>
  <dc:description/>
  <dc:language>en-US</dc:language>
  <cp:lastModifiedBy>hpeter</cp:lastModifiedBy>
  <dcterms:modified xsi:type="dcterms:W3CDTF">2012-04-26T09:37:18Z</dcterms:modified>
  <cp:revision>954</cp:revision>
  <dc:subject/>
  <dc:title>Fejlett Programozási Technikák 2.</dc:title>
</cp:coreProperties>
</file>