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B20CE-85F6-47C9-8537-B98262920E55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Dia számának hely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AB662-4DB5-4119-A362-513317A4CBDC}" type="slidenum">
              <a:rPr b="0" lang="hu-H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76EED-1E0E-4CE0-9050-62FC04052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FF2EE-7C19-4350-8C1C-63CE91F4C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BF9A1-0114-4E9A-B928-75078A7B1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CB011-8CCE-4ABA-8EC8-44688DEE8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6E821-FFB7-4604-924D-F95AC1405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A3AE4-FEE6-4FD8-A6A4-3EEE651DE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4ECA3-446C-492D-976D-FB783EB35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A3E67-DE62-4A4B-8C94-59E52E82E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568FE-6EE0-4081-97D9-0DC8D67C9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68345-A94A-4269-AC0F-534F33ACB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547D4-F025-43CC-9A45-1DD73DD78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6F558-FDBD-4C12-AD4E-AE9D3084C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da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360" y="6524640"/>
            <a:ext cx="565164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a7744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Times New Roman"/>
              </a:rPr>
              <a:t>Szegedi Tudományegyetem Természettudományi és Informatikai K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796000" y="6524640"/>
            <a:ext cx="1728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a7744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Times New Roman"/>
              </a:rPr>
              <a:t>Antal Gáb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596000" y="6524640"/>
            <a:ext cx="154764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a7744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AFC8F-ADBA-46D4-8403-EBA5660D7764}" type="slidenum">
              <a:rPr b="0" lang="hu-HU" sz="1400" spc="-1" strike="noStrike">
                <a:solidFill>
                  <a:srgbClr val="a77447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468360" y="1557360"/>
            <a:ext cx="8207280" cy="4680000"/>
          </a:xfrm>
          <a:prstGeom prst="rect">
            <a:avLst/>
          </a:prstGeom>
          <a:solidFill>
            <a:srgbClr val="cdb279"/>
          </a:solidFill>
          <a:ln w="9360">
            <a:solidFill>
              <a:srgbClr val="a784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9"/>
          <p:cNvSpPr/>
          <p:nvPr/>
        </p:nvSpPr>
        <p:spPr>
          <a:xfrm>
            <a:off x="468360" y="260280"/>
            <a:ext cx="8207280" cy="1152720"/>
          </a:xfrm>
          <a:prstGeom prst="rect">
            <a:avLst/>
          </a:prstGeom>
          <a:solidFill>
            <a:srgbClr val="a77447"/>
          </a:solidFill>
          <a:ln cap="rnd" w="9360">
            <a:solidFill>
              <a:srgbClr val="765232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3"/>
          <p:cNvSpPr/>
          <p:nvPr/>
        </p:nvSpPr>
        <p:spPr>
          <a:xfrm>
            <a:off x="0" y="6524640"/>
            <a:ext cx="5651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Szegedi Tudományegyetem Természettudományi és Informatikai K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4"/>
          <p:cNvSpPr/>
          <p:nvPr/>
        </p:nvSpPr>
        <p:spPr>
          <a:xfrm>
            <a:off x="5796000" y="6524640"/>
            <a:ext cx="1728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Antal Gáb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Rectangle 15"/>
          <p:cNvSpPr/>
          <p:nvPr/>
        </p:nvSpPr>
        <p:spPr>
          <a:xfrm>
            <a:off x="7596360" y="6524640"/>
            <a:ext cx="15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0865F-A82E-41B8-8466-F7E8D1E0D75A}" type="slidenum">
              <a:rPr b="0" lang="hu-HU" sz="1400" spc="-1" strike="noStrike">
                <a:solidFill>
                  <a:srgbClr val="a7744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16"/>
          <p:cNvSpPr/>
          <p:nvPr/>
        </p:nvSpPr>
        <p:spPr>
          <a:xfrm>
            <a:off x="0" y="6524640"/>
            <a:ext cx="5651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Szegedi Tudományegyetem Természettudományi és Informatikai K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Rectangle 17"/>
          <p:cNvSpPr/>
          <p:nvPr/>
        </p:nvSpPr>
        <p:spPr>
          <a:xfrm>
            <a:off x="5796000" y="6524640"/>
            <a:ext cx="1728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Antal Gáb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da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468360" y="260280"/>
            <a:ext cx="8207280" cy="5977080"/>
          </a:xfrm>
          <a:prstGeom prst="rect">
            <a:avLst/>
          </a:prstGeom>
          <a:solidFill>
            <a:srgbClr val="cdb279"/>
          </a:solidFill>
          <a:ln w="9360">
            <a:solidFill>
              <a:srgbClr val="a784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0"/>
          <p:cNvSpPr/>
          <p:nvPr/>
        </p:nvSpPr>
        <p:spPr>
          <a:xfrm>
            <a:off x="7596360" y="6524640"/>
            <a:ext cx="15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B0EA6-4446-4903-B59E-B4D288001F8C}" type="slidenum">
              <a:rPr b="0" lang="hu-HU" sz="1400" spc="-1" strike="noStrike">
                <a:solidFill>
                  <a:srgbClr val="a7744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1"/>
          <p:cNvSpPr/>
          <p:nvPr/>
        </p:nvSpPr>
        <p:spPr>
          <a:xfrm>
            <a:off x="0" y="6524640"/>
            <a:ext cx="5651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Szegedi Tudományegyetem Természettudományi és Informatikai K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2"/>
          <p:cNvSpPr/>
          <p:nvPr/>
        </p:nvSpPr>
        <p:spPr>
          <a:xfrm>
            <a:off x="5796000" y="6524640"/>
            <a:ext cx="1728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Antal Gáb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Programozás II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5. gyakorl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000000"/>
                </a:solidFill>
                <a:latin typeface="Arial"/>
              </a:rPr>
              <a:t>Referencia szerinti paraméterátadá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599840"/>
            <a:ext cx="8229600" cy="46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Nagyon hasonlít a pointer szerinti paraméter átadás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A C++ </a:t>
            </a: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nem tesz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 különbséget referencia és érték paraméter közöt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nem tehetjük meg, hogy ugyanolyan névvel létrehozunk kettő függvényt, úgy, hogy az egyik paramétere egy referencia, a másiké egy érté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Dátum helye 3"/>
          <p:cNvSpPr/>
          <p:nvPr/>
        </p:nvSpPr>
        <p:spPr>
          <a:xfrm>
            <a:off x="0" y="6524640"/>
            <a:ext cx="5651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Szegedi Tudományegyetem Természettudományi és Informatikai K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Élőláb helye 4"/>
          <p:cNvSpPr/>
          <p:nvPr/>
        </p:nvSpPr>
        <p:spPr>
          <a:xfrm>
            <a:off x="5796000" y="6524640"/>
            <a:ext cx="1728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Antal Gáb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Dia számának helye 5"/>
          <p:cNvSpPr/>
          <p:nvPr/>
        </p:nvSpPr>
        <p:spPr>
          <a:xfrm>
            <a:off x="7596360" y="6524640"/>
            <a:ext cx="15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2024C-41B0-42A3-9F20-913961504A37}" type="slidenum">
              <a:rPr b="0" lang="hu-HU" sz="1400" spc="-1" strike="noStrike">
                <a:solidFill>
                  <a:srgbClr val="a7744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Pél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599840"/>
            <a:ext cx="4330800" cy="46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#include&lt;iostream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using namespace st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void fgvNovel( int&amp; a 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++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int main( 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int a = 5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fgvNovel( a 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cout &lt;&lt; a &lt;&lt; endl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Dátum helye 3"/>
          <p:cNvSpPr/>
          <p:nvPr/>
        </p:nvSpPr>
        <p:spPr>
          <a:xfrm>
            <a:off x="0" y="6524640"/>
            <a:ext cx="5651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Szegedi Tudományegyetem Természettudományi és Informatikai K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Élőláb helye 4"/>
          <p:cNvSpPr/>
          <p:nvPr/>
        </p:nvSpPr>
        <p:spPr>
          <a:xfrm>
            <a:off x="5796000" y="6524640"/>
            <a:ext cx="1728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Antal Gáb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Dia számának helye 5"/>
          <p:cNvSpPr/>
          <p:nvPr/>
        </p:nvSpPr>
        <p:spPr>
          <a:xfrm>
            <a:off x="7596360" y="6524640"/>
            <a:ext cx="15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D4AFA-B96A-47F4-A3F3-B7BAD5F5C040}" type="slidenum">
              <a:rPr b="0" lang="hu-HU" sz="1400" spc="-1" strike="noStrike">
                <a:solidFill>
                  <a:srgbClr val="a7744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artalom helye 2"/>
          <p:cNvSpPr/>
          <p:nvPr/>
        </p:nvSpPr>
        <p:spPr>
          <a:xfrm>
            <a:off x="5219640" y="1557360"/>
            <a:ext cx="3386160" cy="461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595959"/>
                </a:solidFill>
                <a:latin typeface="Arial"/>
              </a:rPr>
              <a:t>#include&lt;iostream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595959"/>
                </a:solidFill>
                <a:latin typeface="Arial"/>
              </a:rPr>
              <a:t>using namespace st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595959"/>
                </a:solidFill>
                <a:latin typeface="Arial"/>
              </a:rPr>
              <a:t>void fgvNovel( int* a 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595959"/>
                </a:solidFill>
                <a:latin typeface="Arial"/>
              </a:rPr>
              <a:t>  </a:t>
            </a:r>
            <a:r>
              <a:rPr b="0" lang="hu-HU" sz="2000" spc="-1" strike="noStrike">
                <a:solidFill>
                  <a:srgbClr val="595959"/>
                </a:solidFill>
                <a:latin typeface="Arial"/>
              </a:rPr>
              <a:t>(*a)++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595959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595959"/>
                </a:solidFill>
                <a:latin typeface="Arial"/>
              </a:rPr>
              <a:t>int main( 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595959"/>
                </a:solidFill>
                <a:latin typeface="Arial"/>
              </a:rPr>
              <a:t>  </a:t>
            </a:r>
            <a:r>
              <a:rPr b="0" lang="hu-HU" sz="2000" spc="-1" strike="noStrike">
                <a:solidFill>
                  <a:srgbClr val="595959"/>
                </a:solidFill>
                <a:latin typeface="Arial"/>
              </a:rPr>
              <a:t>int a = 5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595959"/>
                </a:solidFill>
                <a:latin typeface="Arial"/>
              </a:rPr>
              <a:t>  </a:t>
            </a:r>
            <a:r>
              <a:rPr b="0" lang="hu-HU" sz="2000" spc="-1" strike="noStrike">
                <a:solidFill>
                  <a:srgbClr val="595959"/>
                </a:solidFill>
                <a:latin typeface="Arial"/>
              </a:rPr>
              <a:t>fgvNovel( &amp;a 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595959"/>
                </a:solidFill>
                <a:latin typeface="Arial"/>
              </a:rPr>
              <a:t>  </a:t>
            </a:r>
            <a:r>
              <a:rPr b="0" lang="hu-HU" sz="2000" spc="-1" strike="noStrike">
                <a:solidFill>
                  <a:srgbClr val="595959"/>
                </a:solidFill>
                <a:latin typeface="Arial"/>
              </a:rPr>
              <a:t>cout &lt;&lt; a &lt;&lt; endl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595959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Dinamikus tömbö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599840"/>
            <a:ext cx="8229600" cy="46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Dinamikus tömböknek memóriát a new-val kell lefoglaln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int* arr = new int[ size ]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SajatOsztaly* sajat = new SajatOsztaly[ size ]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(ez csak akkor működik, ha van default konstrukto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ömböket a delete[] operátorral törörüljü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delete[] arr;</a:t>
            </a:r>
            <a:br>
              <a:rPr sz="2800"/>
            </a:b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delete[] saja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Dátum helye 3"/>
          <p:cNvSpPr/>
          <p:nvPr/>
        </p:nvSpPr>
        <p:spPr>
          <a:xfrm>
            <a:off x="0" y="6524640"/>
            <a:ext cx="5651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Szegedi Tudományegyetem Természettudományi és Informatikai K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Élőláb helye 4"/>
          <p:cNvSpPr/>
          <p:nvPr/>
        </p:nvSpPr>
        <p:spPr>
          <a:xfrm>
            <a:off x="5796000" y="6524640"/>
            <a:ext cx="1728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Antal Gáb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Dia számának helye 5"/>
          <p:cNvSpPr/>
          <p:nvPr/>
        </p:nvSpPr>
        <p:spPr>
          <a:xfrm>
            <a:off x="7596360" y="6524640"/>
            <a:ext cx="15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3E8BA-0678-458E-A067-AA8AF94F03D5}" type="slidenum">
              <a:rPr b="0" lang="hu-HU" sz="1400" spc="-1" strike="noStrike">
                <a:solidFill>
                  <a:srgbClr val="a7744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Névterek - namesp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7200" y="1599840"/>
            <a:ext cx="8229600" cy="46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Egy függvény vagy osztály írásakor könnyen előfordulhat, hogy az általunk választott </a:t>
            </a: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név ütközik 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egy meglévőv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névterek felhasználásával a különböző definíciók </a:t>
            </a: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névhierarchiába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szervezhetőek. Így </a:t>
            </a: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logikai csoportosítás is elérhető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Névterekkel </a:t>
            </a: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tetszőleges mélységű névtér hierarchia 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lakítható k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Megkezdett névtér </a:t>
            </a: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folytatható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, akár külön másik forrás file-ba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zonos névtérben </a:t>
            </a: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nem lehet 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két egyforma definíció (osztály, függvény, változó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Dátum helye 3"/>
          <p:cNvSpPr/>
          <p:nvPr/>
        </p:nvSpPr>
        <p:spPr>
          <a:xfrm>
            <a:off x="0" y="6524640"/>
            <a:ext cx="5651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Szegedi Tudományegyetem Természettudományi és Informatikai K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Élőláb helye 4"/>
          <p:cNvSpPr/>
          <p:nvPr/>
        </p:nvSpPr>
        <p:spPr>
          <a:xfrm>
            <a:off x="5796000" y="6524640"/>
            <a:ext cx="1728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Antal Gáb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Dia számának helye 5"/>
          <p:cNvSpPr/>
          <p:nvPr/>
        </p:nvSpPr>
        <p:spPr>
          <a:xfrm>
            <a:off x="7596360" y="6524640"/>
            <a:ext cx="15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7B4FA-8D85-40CC-A0FB-CC164EEB02CE}" type="slidenum">
              <a:rPr b="0" lang="hu-HU" sz="1400" spc="-1" strike="noStrike">
                <a:solidFill>
                  <a:srgbClr val="a7744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Pél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57200" y="1599840"/>
            <a:ext cx="8229600" cy="46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namespace Math{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class ComplexNum{ //… }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class PositiveNum{ //… }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namespace House{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class Kitchen{ //… }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class Room{ //… }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Dátum helye 3"/>
          <p:cNvSpPr/>
          <p:nvPr/>
        </p:nvSpPr>
        <p:spPr>
          <a:xfrm>
            <a:off x="0" y="6524640"/>
            <a:ext cx="5651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Szegedi Tudományegyetem Természettudományi és Informatikai K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Élőláb helye 4"/>
          <p:cNvSpPr/>
          <p:nvPr/>
        </p:nvSpPr>
        <p:spPr>
          <a:xfrm>
            <a:off x="5796000" y="6524640"/>
            <a:ext cx="1728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Antal Gáb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Dia számának helye 5"/>
          <p:cNvSpPr/>
          <p:nvPr/>
        </p:nvSpPr>
        <p:spPr>
          <a:xfrm>
            <a:off x="7596360" y="6524640"/>
            <a:ext cx="15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BF40E-FA30-4C54-9BF6-C3EC77CBDF85}" type="slidenum">
              <a:rPr b="0" lang="hu-HU" sz="1400" spc="-1" strike="noStrike">
                <a:solidFill>
                  <a:srgbClr val="a7744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Névterek eléré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599840"/>
            <a:ext cx="8229600" cy="46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A névterek elérési útja programozhat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Névtér feloldó operátor (</a:t>
            </a: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scope operátor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: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Példa:    std::c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A teljes elérési utat meg kell adni, ha az elérni kívánt tag több névtérbe van beágyazv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House::Room::Bed be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Dátum helye 3"/>
          <p:cNvSpPr/>
          <p:nvPr/>
        </p:nvSpPr>
        <p:spPr>
          <a:xfrm>
            <a:off x="0" y="6524640"/>
            <a:ext cx="5651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Szegedi Tudományegyetem Természettudományi és Informatikai K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Élőláb helye 4"/>
          <p:cNvSpPr/>
          <p:nvPr/>
        </p:nvSpPr>
        <p:spPr>
          <a:xfrm>
            <a:off x="5796000" y="6524640"/>
            <a:ext cx="1728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Antal Gáb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Dia számának helye 5"/>
          <p:cNvSpPr/>
          <p:nvPr/>
        </p:nvSpPr>
        <p:spPr>
          <a:xfrm>
            <a:off x="7596360" y="6524640"/>
            <a:ext cx="15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D84BD-54CB-4692-84E8-D86F93818E3D}" type="slidenum">
              <a:rPr b="0" lang="hu-HU" sz="1400" spc="-1" strike="noStrike">
                <a:solidFill>
                  <a:srgbClr val="a7744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Névterek eléré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57200" y="1599840"/>
            <a:ext cx="8229600" cy="46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Ahhoz, hogy ne kelljen minden alkalommal kiírni a teljes elérési útvonalat, a névteret használni kell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Ezután használhatjuk úgy az adott tagot, mintha a saját névterünkben len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using namespace Math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ComplexNum 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using namespace House::Room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Bed bed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using namespace std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Dátum helye 3"/>
          <p:cNvSpPr/>
          <p:nvPr/>
        </p:nvSpPr>
        <p:spPr>
          <a:xfrm>
            <a:off x="0" y="6524640"/>
            <a:ext cx="5651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Szegedi Tudományegyetem Természettudományi és Informatikai K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Élőláb helye 4"/>
          <p:cNvSpPr/>
          <p:nvPr/>
        </p:nvSpPr>
        <p:spPr>
          <a:xfrm>
            <a:off x="5796000" y="6524640"/>
            <a:ext cx="1728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Antal Gáb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Dia számának helye 5"/>
          <p:cNvSpPr/>
          <p:nvPr/>
        </p:nvSpPr>
        <p:spPr>
          <a:xfrm>
            <a:off x="7596360" y="6524640"/>
            <a:ext cx="15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19FBD-F900-4439-928D-DCD771BE9AB0}" type="slidenum">
              <a:rPr b="0" lang="hu-HU" sz="1400" spc="-1" strike="noStrike">
                <a:solidFill>
                  <a:srgbClr val="a7744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Öröklődé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Öröklődé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57200" y="1599840"/>
            <a:ext cx="8229600" cy="46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Osztályok között értelmezett viszo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Egy általánosabb típus felől (ős) haladunk egy speciálisabb típus felé (gyerek-, leszármazott-, utódosztál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datokat, műveleteket, viselkedésmódot örökö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kiegészíthetjük saját adatokkal, műveletekkel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felülírhatunk bizonyos műveletek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kód újrafelhasználásának egyik mód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Egyszeres és többszörös öröklőd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Dátum helye 3"/>
          <p:cNvSpPr/>
          <p:nvPr/>
        </p:nvSpPr>
        <p:spPr>
          <a:xfrm>
            <a:off x="0" y="6524640"/>
            <a:ext cx="5651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Szegedi Tudományegyetem Természettudományi és Informatikai K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Élőláb helye 4"/>
          <p:cNvSpPr/>
          <p:nvPr/>
        </p:nvSpPr>
        <p:spPr>
          <a:xfrm>
            <a:off x="5796000" y="6524640"/>
            <a:ext cx="1728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Antal Gáb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Dia számának helye 5"/>
          <p:cNvSpPr/>
          <p:nvPr/>
        </p:nvSpPr>
        <p:spPr>
          <a:xfrm>
            <a:off x="7596360" y="6524640"/>
            <a:ext cx="15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B39D0-5991-4231-8805-D2C3DEB5C37F}" type="slidenum">
              <a:rPr b="0" lang="hu-HU" sz="1400" spc="-1" strike="noStrike">
                <a:solidFill>
                  <a:srgbClr val="a7744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Öröklődé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1599840"/>
            <a:ext cx="8229600" cy="46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Szintax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class ChildClass : visibility ParentClass{}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Gyerekosztály konstruktorában meg kell hívni az ős osztály konstruktorát a következőképp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publi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ChildClass( int param) : Parent( param ){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Dátum helye 3"/>
          <p:cNvSpPr/>
          <p:nvPr/>
        </p:nvSpPr>
        <p:spPr>
          <a:xfrm>
            <a:off x="0" y="6524640"/>
            <a:ext cx="5651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Szegedi Tudományegyetem Természettudományi és Informatikai K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Élőláb helye 4"/>
          <p:cNvSpPr/>
          <p:nvPr/>
        </p:nvSpPr>
        <p:spPr>
          <a:xfrm>
            <a:off x="5796000" y="6524640"/>
            <a:ext cx="1728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Antal Gáb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Dia számának helye 5"/>
          <p:cNvSpPr/>
          <p:nvPr/>
        </p:nvSpPr>
        <p:spPr>
          <a:xfrm>
            <a:off x="7596360" y="6524640"/>
            <a:ext cx="15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EEED9-C6C8-444F-9489-265317411A26}" type="slidenum">
              <a:rPr b="0" lang="hu-HU" sz="1400" spc="-1" strike="noStrike">
                <a:solidFill>
                  <a:srgbClr val="a7744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Ismétlés múlt óráró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599840"/>
            <a:ext cx="8229600" cy="46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Macska osztá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Konstruk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nyávog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példányosítás stack/he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pointer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default paraméter értékekk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láthatóság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std névté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iostre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Dátum helye 3"/>
          <p:cNvSpPr/>
          <p:nvPr/>
        </p:nvSpPr>
        <p:spPr>
          <a:xfrm>
            <a:off x="0" y="6524640"/>
            <a:ext cx="5651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Szegedi Tudományegyetem Természettudományi és Informatikai K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Élőláb helye 4"/>
          <p:cNvSpPr/>
          <p:nvPr/>
        </p:nvSpPr>
        <p:spPr>
          <a:xfrm>
            <a:off x="5796000" y="6524640"/>
            <a:ext cx="1728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Antal Gáb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Dia számának helye 5"/>
          <p:cNvSpPr/>
          <p:nvPr/>
        </p:nvSpPr>
        <p:spPr>
          <a:xfrm>
            <a:off x="7596360" y="6524640"/>
            <a:ext cx="15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5326D-312C-4EE0-A155-80C0E173171B}" type="slidenum">
              <a:rPr b="0" lang="hu-HU" sz="1400" spc="-1" strike="noStrike">
                <a:solidFill>
                  <a:srgbClr val="a7744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Öröklődé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599840"/>
            <a:ext cx="8229600" cy="46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Láthatóság használatával csak szigorítani lehet az öröklődés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Dátum helye 3"/>
          <p:cNvSpPr/>
          <p:nvPr/>
        </p:nvSpPr>
        <p:spPr>
          <a:xfrm>
            <a:off x="0" y="6524640"/>
            <a:ext cx="5651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Szegedi Tudományegyetem Természettudományi és Informatikai K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Élőláb helye 4"/>
          <p:cNvSpPr/>
          <p:nvPr/>
        </p:nvSpPr>
        <p:spPr>
          <a:xfrm>
            <a:off x="5796000" y="6524640"/>
            <a:ext cx="1728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Antal Gáb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Dia számának helye 5"/>
          <p:cNvSpPr/>
          <p:nvPr/>
        </p:nvSpPr>
        <p:spPr>
          <a:xfrm>
            <a:off x="7596360" y="6524640"/>
            <a:ext cx="15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E7B23-C47A-4EAB-AACB-2AF7F5E6C72C}" type="slidenum">
              <a:rPr b="0" lang="hu-HU" sz="1400" spc="-1" strike="noStrike">
                <a:solidFill>
                  <a:srgbClr val="a7744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1258920" y="2997360"/>
          <a:ext cx="6769080" cy="1482480"/>
        </p:xfrm>
        <a:graphic>
          <a:graphicData uri="http://schemas.openxmlformats.org/drawingml/2006/table">
            <a:tbl>
              <a:tblPr/>
              <a:tblGrid>
                <a:gridCol w="2057400"/>
                <a:gridCol w="1542960"/>
                <a:gridCol w="1656000"/>
                <a:gridCol w="1512720"/>
              </a:tblGrid>
              <a:tr h="369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ubl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tect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v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bl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bl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tect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v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69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tect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tect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tect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v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v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v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v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v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öbbszörös öröklődé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57200" y="1599840"/>
            <a:ext cx="8229600" cy="46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Nem egy, hanem több osztályból örököltetün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Szintax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hu-HU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ChildClass: visibility Parent1, visibility Parent2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Gyerek konstruktorában meg kell hívni az ősosztályok konstuktorá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ubli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hildClass( int param) : Parent1( param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arent2( param)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Dátum helye 3"/>
          <p:cNvSpPr/>
          <p:nvPr/>
        </p:nvSpPr>
        <p:spPr>
          <a:xfrm>
            <a:off x="0" y="6524640"/>
            <a:ext cx="5651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Szegedi Tudományegyetem Természettudományi és Informatikai K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Élőláb helye 4"/>
          <p:cNvSpPr/>
          <p:nvPr/>
        </p:nvSpPr>
        <p:spPr>
          <a:xfrm>
            <a:off x="5796000" y="6524640"/>
            <a:ext cx="1728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Antal Gáb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Dia számának helye 5"/>
          <p:cNvSpPr/>
          <p:nvPr/>
        </p:nvSpPr>
        <p:spPr>
          <a:xfrm>
            <a:off x="7596360" y="6524640"/>
            <a:ext cx="15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51AFD-4A5B-448F-99C5-E77499E848FA}" type="slidenum">
              <a:rPr b="0" lang="hu-HU" sz="1400" spc="-1" strike="noStrike">
                <a:solidFill>
                  <a:srgbClr val="a7744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Ős adattagok eléré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599840"/>
            <a:ext cx="8229600" cy="46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z ősosztály minden adattagját elérjük (kivéve a private láthatóságúaka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a már felüldefiniáltunk egy metódust, és a metódust az osztályon belül bármilyen prefix nélkül használjuk, akkor a felülírt metódus fog meghívódn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Viszont ha ilyen esetben az ős osztály metódusát szeretnénk használni, akkor meg kell adni az elérési útvonala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arentClass::methodName(param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iér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Dátum helye 3"/>
          <p:cNvSpPr/>
          <p:nvPr/>
        </p:nvSpPr>
        <p:spPr>
          <a:xfrm>
            <a:off x="0" y="6524640"/>
            <a:ext cx="5651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Szegedi Tudományegyetem Természettudományi és Informatikai K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Élőláb helye 4"/>
          <p:cNvSpPr/>
          <p:nvPr/>
        </p:nvSpPr>
        <p:spPr>
          <a:xfrm>
            <a:off x="5796000" y="6524640"/>
            <a:ext cx="1728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Antal Gáb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Dia számának helye 5"/>
          <p:cNvSpPr/>
          <p:nvPr/>
        </p:nvSpPr>
        <p:spPr>
          <a:xfrm>
            <a:off x="7596360" y="6524640"/>
            <a:ext cx="15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E41AF-57B0-4BEB-98E4-7E1EB695B6D8}" type="slidenum">
              <a:rPr b="0" lang="hu-HU" sz="1400" spc="-1" strike="noStrike">
                <a:solidFill>
                  <a:srgbClr val="a7744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Copy konstruc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599840"/>
            <a:ext cx="8229600" cy="46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Objektum másolásakor használju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Pont origo(0,0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Pont p2 = origo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Pont p3(origo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Fordító létrehoz egy copy konstruktort, ha mi nem csinálun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ez miért nem jó mindi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Dátum helye 3"/>
          <p:cNvSpPr/>
          <p:nvPr/>
        </p:nvSpPr>
        <p:spPr>
          <a:xfrm>
            <a:off x="0" y="6524640"/>
            <a:ext cx="5651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Szegedi Tudományegyetem Természettudományi és Informatikai K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Élőláb helye 4"/>
          <p:cNvSpPr/>
          <p:nvPr/>
        </p:nvSpPr>
        <p:spPr>
          <a:xfrm>
            <a:off x="5796000" y="6524640"/>
            <a:ext cx="1728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Antal Gáb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Dia számának helye 5"/>
          <p:cNvSpPr/>
          <p:nvPr/>
        </p:nvSpPr>
        <p:spPr>
          <a:xfrm>
            <a:off x="7596360" y="6524640"/>
            <a:ext cx="15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6263C-0548-4E12-B31B-BDFD01AF1BFC}" type="slidenum">
              <a:rPr b="0" lang="hu-HU" sz="1400" spc="-1" strike="noStrike">
                <a:solidFill>
                  <a:srgbClr val="a7744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Paraméter átadási mód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599840"/>
            <a:ext cx="8229600" cy="46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Háromféle módon adhatunk át paramétereket a függvényeinkne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Érték szerint (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void fuggveny( int a 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Cím szerint (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void fuggveny( int* a 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Referencia szerint (Java, C++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void fuggveny( int&amp; a 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Dátum helye 3"/>
          <p:cNvSpPr/>
          <p:nvPr/>
        </p:nvSpPr>
        <p:spPr>
          <a:xfrm>
            <a:off x="0" y="6524640"/>
            <a:ext cx="5651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Szegedi Tudományegyetem Természettudományi és Informatikai K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Élőláb helye 4"/>
          <p:cNvSpPr/>
          <p:nvPr/>
        </p:nvSpPr>
        <p:spPr>
          <a:xfrm>
            <a:off x="5796000" y="6524640"/>
            <a:ext cx="1728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Antal Gáb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Dia számának helye 5"/>
          <p:cNvSpPr/>
          <p:nvPr/>
        </p:nvSpPr>
        <p:spPr>
          <a:xfrm>
            <a:off x="7596360" y="6524640"/>
            <a:ext cx="15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C8F1F-110E-41E9-8A2C-EE8C7593A30D}" type="slidenum">
              <a:rPr b="0" lang="hu-HU" sz="1400" spc="-1" strike="noStrike">
                <a:solidFill>
                  <a:srgbClr val="a7744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Érték szerin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599840"/>
            <a:ext cx="8229600" cy="46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paraméter értéke </a:t>
            </a: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lemásolódik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verembe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a függvény hívásak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függvény belsejében </a:t>
            </a: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ezzel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a változóval (objektummal) dolgozun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függvény végén ezek a változók (objektumok)  automatikusan </a:t>
            </a: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felszabadulnak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Költségek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: létrehozás, másolás, felszabadítá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Dátum helye 3"/>
          <p:cNvSpPr/>
          <p:nvPr/>
        </p:nvSpPr>
        <p:spPr>
          <a:xfrm>
            <a:off x="0" y="6524640"/>
            <a:ext cx="5651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Szegedi Tudományegyetem Természettudományi és Informatikai K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Élőláb helye 4"/>
          <p:cNvSpPr/>
          <p:nvPr/>
        </p:nvSpPr>
        <p:spPr>
          <a:xfrm>
            <a:off x="5796000" y="6524640"/>
            <a:ext cx="1728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Antal Gáb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Dia számának helye 5"/>
          <p:cNvSpPr/>
          <p:nvPr/>
        </p:nvSpPr>
        <p:spPr>
          <a:xfrm>
            <a:off x="7596360" y="6524640"/>
            <a:ext cx="15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D635F-0D02-454E-A7AE-92D344CA5B82}" type="slidenum">
              <a:rPr b="0" lang="hu-HU" sz="1400" spc="-1" strike="noStrike">
                <a:solidFill>
                  <a:srgbClr val="a7744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Pél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599840"/>
            <a:ext cx="8229600" cy="46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#include&lt;iostream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using namespace st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void fgvNovel( int a 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++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int main( 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int a = 5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fgvNovel( a 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cout &lt;&lt; a &lt;&lt; endl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Dátum helye 3"/>
          <p:cNvSpPr/>
          <p:nvPr/>
        </p:nvSpPr>
        <p:spPr>
          <a:xfrm>
            <a:off x="0" y="6524640"/>
            <a:ext cx="5651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Szegedi Tudományegyetem Természettudományi és Informatikai K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Élőláb helye 4"/>
          <p:cNvSpPr/>
          <p:nvPr/>
        </p:nvSpPr>
        <p:spPr>
          <a:xfrm>
            <a:off x="5796000" y="6524640"/>
            <a:ext cx="1728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Antal Gáb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Dia számának helye 5"/>
          <p:cNvSpPr/>
          <p:nvPr/>
        </p:nvSpPr>
        <p:spPr>
          <a:xfrm>
            <a:off x="7596360" y="6524640"/>
            <a:ext cx="15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A46D0-6F33-4B73-9EDB-B9850450229E}" type="slidenum">
              <a:rPr b="0" lang="hu-HU" sz="1400" spc="-1" strike="noStrike">
                <a:solidFill>
                  <a:srgbClr val="a7744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Cím szerinti paraméterátadá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599840"/>
            <a:ext cx="8229600" cy="46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változó </a:t>
            </a: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nem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másolódik 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függvényen belül az </a:t>
            </a: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eredeti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változóval (objektummal) dolgozun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függvény végrehajtása után </a:t>
            </a: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nem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szabadulnak fe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Egy pointert állítunk a változóra és ezen keresztül érjük el az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Nincs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létrehozási, másolási, felszabadítási költsé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Dátum helye 3"/>
          <p:cNvSpPr/>
          <p:nvPr/>
        </p:nvSpPr>
        <p:spPr>
          <a:xfrm>
            <a:off x="0" y="6524640"/>
            <a:ext cx="5651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Szegedi Tudományegyetem Természettudományi és Informatikai K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Élőláb helye 4"/>
          <p:cNvSpPr/>
          <p:nvPr/>
        </p:nvSpPr>
        <p:spPr>
          <a:xfrm>
            <a:off x="5796000" y="6524640"/>
            <a:ext cx="1728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Antal Gáb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Dia számának helye 5"/>
          <p:cNvSpPr/>
          <p:nvPr/>
        </p:nvSpPr>
        <p:spPr>
          <a:xfrm>
            <a:off x="7596360" y="6524640"/>
            <a:ext cx="15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3CFF3-29BF-49EB-BDA8-349D228E8F66}" type="slidenum">
              <a:rPr b="0" lang="hu-HU" sz="1400" spc="-1" strike="noStrike">
                <a:solidFill>
                  <a:srgbClr val="a7744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Pél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599840"/>
            <a:ext cx="8229600" cy="46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#include&lt;iostream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using namespace st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void fgvNovel( int* a 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(*a)++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int main( 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int a = 5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fgvNovel( &amp;a 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cout &lt;&lt; a &lt;&lt; endl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Dátum helye 3"/>
          <p:cNvSpPr/>
          <p:nvPr/>
        </p:nvSpPr>
        <p:spPr>
          <a:xfrm>
            <a:off x="0" y="6524640"/>
            <a:ext cx="5651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Szegedi Tudományegyetem Természettudományi és Informatikai K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Élőláb helye 4"/>
          <p:cNvSpPr/>
          <p:nvPr/>
        </p:nvSpPr>
        <p:spPr>
          <a:xfrm>
            <a:off x="5796000" y="6524640"/>
            <a:ext cx="1728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Antal Gáb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Dia számának helye 5"/>
          <p:cNvSpPr/>
          <p:nvPr/>
        </p:nvSpPr>
        <p:spPr>
          <a:xfrm>
            <a:off x="7596360" y="6524640"/>
            <a:ext cx="15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0902C-4276-4FF7-817A-36805987FFA1}" type="slidenum">
              <a:rPr b="0" lang="hu-HU" sz="1400" spc="-1" strike="noStrike">
                <a:solidFill>
                  <a:srgbClr val="a7744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artalom helye 2"/>
          <p:cNvSpPr/>
          <p:nvPr/>
        </p:nvSpPr>
        <p:spPr>
          <a:xfrm>
            <a:off x="4427640" y="1557360"/>
            <a:ext cx="4176720" cy="461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595959"/>
                </a:solidFill>
                <a:latin typeface="Arial"/>
              </a:rPr>
              <a:t>#include&lt;iostream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595959"/>
                </a:solidFill>
                <a:latin typeface="Arial"/>
              </a:rPr>
              <a:t>using namespace st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595959"/>
                </a:solidFill>
                <a:latin typeface="Arial"/>
              </a:rPr>
              <a:t>void fgvNovel( int a 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595959"/>
                </a:solidFill>
                <a:latin typeface="Arial"/>
              </a:rPr>
              <a:t>  </a:t>
            </a:r>
            <a:r>
              <a:rPr b="0" lang="hu-HU" sz="2000" spc="-1" strike="noStrike">
                <a:solidFill>
                  <a:srgbClr val="595959"/>
                </a:solidFill>
                <a:latin typeface="Arial"/>
              </a:rPr>
              <a:t>a++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595959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595959"/>
                </a:solidFill>
                <a:latin typeface="Arial"/>
              </a:rPr>
              <a:t>int main( 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595959"/>
                </a:solidFill>
                <a:latin typeface="Arial"/>
              </a:rPr>
              <a:t>  </a:t>
            </a:r>
            <a:r>
              <a:rPr b="0" lang="hu-HU" sz="2000" spc="-1" strike="noStrike">
                <a:solidFill>
                  <a:srgbClr val="595959"/>
                </a:solidFill>
                <a:latin typeface="Arial"/>
              </a:rPr>
              <a:t>int a = 5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595959"/>
                </a:solidFill>
                <a:latin typeface="Arial"/>
              </a:rPr>
              <a:t>  </a:t>
            </a:r>
            <a:r>
              <a:rPr b="0" lang="hu-HU" sz="2000" spc="-1" strike="noStrike">
                <a:solidFill>
                  <a:srgbClr val="595959"/>
                </a:solidFill>
                <a:latin typeface="Arial"/>
              </a:rPr>
              <a:t>fgvNovel( a 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595959"/>
                </a:solidFill>
                <a:latin typeface="Arial"/>
              </a:rPr>
              <a:t>  </a:t>
            </a:r>
            <a:r>
              <a:rPr b="0" lang="hu-HU" sz="2000" spc="-1" strike="noStrike">
                <a:solidFill>
                  <a:srgbClr val="595959"/>
                </a:solidFill>
                <a:latin typeface="Arial"/>
              </a:rPr>
              <a:t>cout &lt;&lt; a &lt;&lt; endl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595959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Egyenes összekötő 11"/>
          <p:cNvSpPr/>
          <p:nvPr/>
        </p:nvSpPr>
        <p:spPr>
          <a:xfrm>
            <a:off x="4284720" y="1773360"/>
            <a:ext cx="0" cy="431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000000"/>
                </a:solidFill>
                <a:latin typeface="Arial"/>
              </a:rPr>
              <a:t>Referencia szerinti paraméterátadá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599840"/>
            <a:ext cx="8229600" cy="46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pointerek nehézkes használata miatt vezették 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Hasonló a pointerhez, de </a:t>
            </a: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itt nem kell képezni 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változó címét, közvetlenül a változóra mutat rá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Nem kell gondolkodni, hogy a pointer címét akarjuk, vagy a mutatott értéket, stb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Megszorítások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referenciát létrehozáskor inicializálni kell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Nem lehet belőle tömböt képezni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Referenciaképzés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: &amp; jell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int a = 5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int&amp; b = 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Dátum helye 3"/>
          <p:cNvSpPr/>
          <p:nvPr/>
        </p:nvSpPr>
        <p:spPr>
          <a:xfrm>
            <a:off x="0" y="6524640"/>
            <a:ext cx="5651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Szegedi Tudományegyetem Természettudományi és Informatikai K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Élőláb helye 4"/>
          <p:cNvSpPr/>
          <p:nvPr/>
        </p:nvSpPr>
        <p:spPr>
          <a:xfrm>
            <a:off x="5796000" y="6524640"/>
            <a:ext cx="1728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Antal Gáb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Dia számának helye 5"/>
          <p:cNvSpPr/>
          <p:nvPr/>
        </p:nvSpPr>
        <p:spPr>
          <a:xfrm>
            <a:off x="7596360" y="6524640"/>
            <a:ext cx="15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383D1-5977-40DC-BAA1-07BBD0594C58}" type="slidenum">
              <a:rPr b="0" lang="hu-HU" sz="1400" spc="-1" strike="noStrike">
                <a:solidFill>
                  <a:srgbClr val="a7744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01T21:15:37Z</dcterms:created>
  <dc:creator>hapci</dc:creator>
  <dc:description/>
  <dc:language>en-US</dc:language>
  <cp:lastModifiedBy>kutyamutya</cp:lastModifiedBy>
  <dcterms:modified xsi:type="dcterms:W3CDTF">2017-10-04T11:51:44Z</dcterms:modified>
  <cp:revision>179</cp:revision>
  <dc:subject/>
  <dc:title>1. dia</dc:title>
</cp:coreProperties>
</file>