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23D7-C03F-439B-B8EF-7473B2260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6566-9EBD-49E6-85FA-9B3DFAE8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9C85-5E22-4865-9111-EFBFCCB11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F384-6393-4074-8FDE-D6B87AE9A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0F40-3DB9-4AD5-8615-3BBA5588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1A16-770F-44BC-AF4A-46F4BED9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1500-C8E7-4B23-AD87-8B94CF6D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A9A3-7FFB-4819-A247-F669867B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D34D-F571-4888-8A74-32EEFC61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FA73-0FCE-437A-86EB-4CA224C5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CCBA-E0BC-449C-8E10-2FA71A5D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5651-2383-4FA1-87BE-83DE84A3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a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774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Times New Roman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7744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Times New Roman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9600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774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D02D-7C96-49A3-8878-4E8184BF21F3}" type="slidenum">
              <a:rPr b="0" lang="hu-HU" sz="1400" spc="-1" strike="noStrike">
                <a:solidFill>
                  <a:srgbClr val="a7744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68360" y="1557360"/>
            <a:ext cx="8207280" cy="4680000"/>
          </a:xfrm>
          <a:prstGeom prst="rect">
            <a:avLst/>
          </a:prstGeom>
          <a:solidFill>
            <a:srgbClr val="cdb279"/>
          </a:solidFill>
          <a:ln w="9360">
            <a:solidFill>
              <a:srgbClr val="a784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468360" y="260280"/>
            <a:ext cx="8207280" cy="1152720"/>
          </a:xfrm>
          <a:prstGeom prst="rect">
            <a:avLst/>
          </a:prstGeom>
          <a:solidFill>
            <a:srgbClr val="a77447"/>
          </a:solidFill>
          <a:ln cap="rnd" w="9360">
            <a:solidFill>
              <a:srgbClr val="76523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2412-8A38-4DF0-A292-5B8B4FD14074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6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7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a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468360" y="260280"/>
            <a:ext cx="8207280" cy="5977080"/>
          </a:xfrm>
          <a:prstGeom prst="rect">
            <a:avLst/>
          </a:prstGeom>
          <a:solidFill>
            <a:srgbClr val="cdb279"/>
          </a:solidFill>
          <a:ln w="9360">
            <a:solidFill>
              <a:srgbClr val="a784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0A36-ED63-4282-AC2B-6C968BFA9994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Programozás I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4. gyakorl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Header fájl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Definíciós és implementációs rész szétválaszt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Átláthatóság, kereskedelem miatt is fonto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ülön forrásfájlok (header, source rés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eader fájlokban tároljuk az adattagokat, valamint a függvények definícióit. (Valami.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implementációt egy másik fájlban (Valami.cpp) írjuk m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015D-CD55-4FD1-8244-4DF0348F2B9F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ozz létre egy Film osztályt, mely tárolja a film címét, a producer nevét, a forgatás időpontját, és hogy mekkora bevételt generál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iztosíts az osztályhoz getter és setter függvényeket, válaszd el az interfészt a megvalósítástó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F7A5-BC44-4221-AE9D-9EEA0E477186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Ismétlés múlt óráró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acska osztá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onstruk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yávog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éldányosí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default paraméter értékekk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láthatóság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td névté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o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EFFA-8CCF-403C-8749-3F17D8A23C35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onstruk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itüntetett metódus, amely az osztály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éldányosítá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ánál fut 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evének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eg kell egyeznie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osztály nevé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em lehet visszatérési érté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lapesetben itt inicializáljuk a változókat, a dinamikus változóknak helyet foglalunk, st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 osztálynak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lehet több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onstruktora, de különbözniük kell a paraméterlistájuk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paraméter nélküli konstruktort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default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konstruktor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ak nevezü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 egy osztálynak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ninc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semmilyen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konstruktora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, akkor a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fordító készít egy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A2D7-AA6D-45CC-8DD2-215D276D7948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Destruk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itüntetett metódus, amely az objektum törlésénél fut 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Dinamikusan allokált memória felszabadít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ájlok lezár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evének meg kell egyeznie az osztály nevével, de a név elé egy ~ jelet kell ten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em lehet visszatérési értéke és paraméter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522D-C4FB-4C0A-84CE-67934F80442E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Pél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lass OneParamete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riv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t m_iParamet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neParameter() {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//default konstruk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_iParameter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neParameter( int a ) {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//paraméteres konstruk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_iParameter = 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~OneParameter()  {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//destruk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//Nincs dinamikusan foglalt erőforrásunk melyet fel kellene szabadít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32B2-4CC5-4667-9B27-0E911DA6ED36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his poi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ktuális objektumra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mutató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vel pointer, ezért a -&gt; kell hivatkozni az adattagokra, függvények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éldául, amikor egy függvény paraméter listájában egy változó neve megegyezik az egyik adattag nevével, ilyenkor a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sel tudunk különbséget ten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lass Osztal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rivate: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t sza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ublic: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t fgv(int szam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his-&gt;szam = szam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E094-A550-41AA-9E0C-2F62BE6BBCA7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Objektumok példányosít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Objektumokat létrehozhatunk a stacken, illetve a heapen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Élettartam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: a blokk végé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Memória felszabadítá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: automatik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Élettartam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: ameddig fel nem szabadítj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Memória felszabadítá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: kézz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12C1-A34E-4908-9842-C5B243A6889E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Példányosít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tack-en, default konstruktorr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eldaOsztaly els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tack-en, paraméteres konstrukorr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eldaOsztaly masodik(10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eap-en, default konstruktorr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eldaOsztaly* harmadik = new PeldaOsztal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eap-en, paraméteres  konstrukorr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eldaOsztaly* negyedik = new PeldaOsztaly(10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5EEA-6904-49B8-BAFA-532148B7C09D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mit new-val foglaltunk le, azt delete-tel törölni k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memóriát fel kell szabadítani (nincs Garbage Collec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eldaOsztaly* harmadik = new PeldaOsztal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eldaOsztaly* negyedik = new PeldaOsztaly(10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elete harmadi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elete negyedi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A3F9-0AA5-4541-9CC6-B016B0337A86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21:15:37Z</dcterms:created>
  <dc:creator>hapci</dc:creator>
  <dc:description/>
  <dc:language>en-US</dc:language>
  <cp:lastModifiedBy>kutyamutya</cp:lastModifiedBy>
  <dcterms:modified xsi:type="dcterms:W3CDTF">2017-09-27T11:50:34Z</dcterms:modified>
  <cp:revision>172</cp:revision>
  <dc:subject/>
  <dc:title>1. dia</dc:title>
</cp:coreProperties>
</file>