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8FF1-224A-47D8-B93F-992A74B3101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0A1-600D-4774-B703-326FDCFDE02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0C8-65A1-4264-9FE2-B993A8A3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48B-C95A-4FC0-B91B-863C6C4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230-DC6E-43AC-AEFB-90D2D26E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021-31DE-4DF0-B004-1B7F1712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8C8-24F5-4068-939A-0086B2AF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B80-7992-49C3-A721-A8E8C071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F81-85DA-4EDD-B30C-6198EA5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7F2-FAE3-48D3-AA94-706F12E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202-F245-43A8-9D8A-7F332D2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A58-5214-4396-9D47-F7D4F576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F8C-30A7-4926-9911-AD3AF73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AB5-3E97-4F31-9FAD-9F4EC73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6CE-FD9C-435D-800F-802821E71344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B36-8850-4E63-BD0E-9D0B7C2499E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272-D190-4460-94B3-B03252CB04E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++ ú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bjektum-orientáltsá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évter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forrásfájlokat névterekbe rendezhetjü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ierarchikus tárolási mód (névtérben lehetnek újabb névtere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Független a fájlok fizikai helyétő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using paranccsal kijelölhető, mely névtereket használju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sing namespace std; - az alapvető i/o műveletek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d::c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7E88-213D-4CA2-A5BD-EE693B6D2A8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++ ú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oros komment (C-ben csak /* *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 Komment egyenértékű: /* K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-beli ciklusváltozó létrehozása és inicializálása a for ciklus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for ( int i=0; i &lt; 10; i ++ 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blo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ol típu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C-ben false = 0, true = minden má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l igaz = true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érték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ool hamis = false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értéke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5CA2-0BA8-4FF3-B6BF-C9DC617C286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/O műve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-s megfelelője az stdio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vető input/output műveleteket tartalma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ut, cerr – Alapértelmezett (hiba)ki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eam (bájtok sorozata), melyeket &lt;&lt; operátorral „köthetünk össz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ut &lt;&lt; ”Hello World” &lt;&lt; ”!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in – Alapértelmezett be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nen olvas, változó típusának megfelelő érté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&gt;&gt; operátorral használható, akár több beolvasásra is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, y;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140-CAC8-4C6E-BAC7-CF6B33ACE42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ault paramé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vények paraméterein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apértelmezett értéke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 adhatunk, de ezeknek a paraméterekne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paraméterlista végé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ell lenniü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kevesebb paraméterrel hívjuk meg a függvényt, az alapértelmezettek megkapják az előre beállított érté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nagyobb (int a, int b = 0) {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return (a &gt; b) a : b;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x = nagyobb (2, 3)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y = nagyobb (2)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// y = 2, ugyanaz, mint a nagyobb(2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ADF-D054-4F25-94E9-F8237977A79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sztály létreho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ulcsszóval definiáljuk az osztályt, melyet az osztály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neve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köv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{ } – blokkban definiáljuk az osztály adattagjait, függvényeit, st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ntos, hogy az osztályt egy ; jel zár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lass SimpleClass {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//…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3A6-8DE9-4461-AB26-754B90FA47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átható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osztályok adattagjainak és függvényeinek kívülről való elérhetőségét szabályozhatj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z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lapértelmeze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áthatóság. Csak osztályon belül hivatkozhatunk 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otecte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osztályon belül, és származtatott osztályokból érhető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bárhonnan el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áthatóság megadá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adjuk a láthatóságot, majd egy kettőspont (:) karaktert teszünk. Minden tag, amit ez után definiálunk ezt a láthatóságot fogja megkap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733-53DC-4211-8E0B-04475BC3411B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impleClas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oid foo(){ //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 foo2(int b) { //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E37-00B9-450E-AD31-8B598CB7332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19T13:51:52Z</dcterms:modified>
  <cp:revision>150</cp:revision>
  <dc:subject/>
  <dc:title>1. dia</dc:title>
</cp:coreProperties>
</file>