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4FE-8115-4165-9650-8D332BB4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94A-CDBE-4A56-B028-9CEEC31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D3E-9542-4DA6-A676-9298DC69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99C-6503-4721-B578-B6DE5D01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D54-30B4-440D-AFDF-CCBF381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2ED-4ED8-4BD1-B958-3A5253C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75D-6635-4477-A3BB-17487367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2C3-50A2-430F-9239-7C7AC01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C74-849B-45DD-858E-221287F9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C12-D869-4380-8969-B7E54A0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8CD-C2A2-4DE2-9B14-7C0E9A5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518-F150-43B5-96B7-6C47D2F4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BA67-0047-4E65-A771-43D3E42D364C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B7ED-854A-49A2-BF40-0B0BF998E99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A41F-26E8-4B51-8D23-FF510AAEB89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hort-circuit_evaluation" TargetMode="External"/><Relationship Id="rId2" Type="http://schemas.openxmlformats.org/officeDocument/2006/relationships/hyperlink" Target="https://en.wikipedia.org/wiki/Short-circuit_evaluation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Logikai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amp;&amp; kif2 : logikai 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|| kif2 : logikai va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! kif : logikai tag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áu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a=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f( ( a%10 == 8 ) || (2*a &gt; 10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”az a megfelelő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7DA-95E0-4983-AB67-198BEC583AC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Relációs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== kif2 : 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!= kif2 : nem 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lt; kif2 : kise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gt; kif2 : nagyo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lt;= kif2 : kisebb-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gt;= kif2 : nagyobb-egyen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hort-circui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.wikipedia.org/wiki/Short-circuit_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B45-4E19-41E6-8BEC-CA927375D4F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bitszintű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~kif : komplemens képzés (bitenkénti negál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gt;&gt; kif2 : bitléptetés job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lt;&lt; kif2 : bitléptetés bal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&amp; kif2 : bitenkénti és műv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| kif2 : bitenkénti vagy műv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^ kif2 : bitenkénti kizáró va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D735-5F51-4EB5-8A64-E9AAB742608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Értékadó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áltozó = kif -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=, -=, *=, /=, %= -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űvelettel egybekötött 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&gt;&gt;=, &lt;&lt;=, &amp;=, ^=, |=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- művelettel egybekötött értéka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x = 8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x += 2;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//x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189-4641-4C92-BC5C-BA4EED147E5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Inkrementá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fix operá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++kif, --kif : kif inkrementálása (dekrementál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értéke a növelt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stfix operá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f++,  kif-- : kif inkrementálása (dekrementálá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sszatérési értéke a növelés előtti érték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x = 0, y = 1;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 = ++y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x = 2, y = 2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 = y++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x = 2; y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401F-7186-4BB6-AE2C-1C7CDA0AF65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ord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81F-DC93-499D-8B4C-6925E85EF0B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Kép 6" descr=""/>
          <p:cNvPicPr/>
          <p:nvPr/>
        </p:nvPicPr>
        <p:blipFill>
          <a:blip r:embed="rId1"/>
          <a:stretch/>
        </p:blipFill>
        <p:spPr>
          <a:xfrm>
            <a:off x="1508040" y="1773360"/>
            <a:ext cx="61261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ordítóprogra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ual Studio, c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cc, g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L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lang, clang+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2FEB-0C96-446D-8D25-F6BDF2BCB89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uild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rdítás, link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gramozás alap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gyenes, nyílt forrá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ttps://cmake.org/cmake-tutoria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ttps://ninja-build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4796-5EBD-4EFA-A6F2-774FFADC68C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5736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 kötelező program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gen/N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őre megadott listából kap majd mindenki feladat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ső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október 15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ásodik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november 19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lati vizsga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100 pont / 50 pon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megadott program elkészítése (2 ó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olsó két hétben legalább egyszer el kell me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javítási lehetőség, minimum pontszámé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F19-49D6-4154-8803-22C9B179427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gramozási paradigma, amelyben a programot objektumokból építjük fel. A program működése objektumok kommunikációját jel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elv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égbezá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limorf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A95F-83D7-4524-AC1D-3157C264209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sztál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Leírás objektumok csoportjához, melyeknek közösek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tribútumai, operáció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 objektumokkal való kapcsolat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elkedés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ztály az objektum típ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hetséges állapotok halm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2477-93E2-4DB9-B659-A877CE91BD9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bjektu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Információt tárol, és kérésre műveleteket végez. Van állapota, viselkedése, futásidőben azonosít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bjektum az osztály példá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a lehetséges állapotok köz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6D9-BE64-4B3A-B592-90D1C661633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-orientált program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artalom helye 6" descr=""/>
          <p:cNvPicPr/>
          <p:nvPr/>
        </p:nvPicPr>
        <p:blipFill>
          <a:blip r:embed="rId1"/>
          <a:stretch/>
        </p:blipFill>
        <p:spPr>
          <a:xfrm>
            <a:off x="900000" y="1569960"/>
            <a:ext cx="7344000" cy="4751640"/>
          </a:xfrm>
          <a:prstGeom prst="rect">
            <a:avLst/>
          </a:prstGeom>
          <a:ln w="0">
            <a:noFill/>
          </a:ln>
        </p:spPr>
      </p:pic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EF2E-5832-4590-B956-95ADFDF4F4B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Egységbezárás, öröklődés, polimorfiz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ségbezár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z adatok és rajtuk végzett műveletek egységbezárása osztályokba. Az objektum egységbe zárja az állapotot (adattagok értéke) a viselkedésmóddal (metóduso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röklőd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Osztályok között értelmezett viszony, egy általános típusból egy specializáltabb típust tudunk létrehozni (ősosztály, gyerekosztály). A gyerekosztály mindent örököl az őstől, azt saját adatokkal és műveletekkel egészíthetjük 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olimorfizm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Többalakúság, objektumok felcserélhetőségét biztosítja; egy típust az őse alapján kezelj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81A-EF7C-4470-8E0E-87929BC3345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verloading/Overr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ódus túlterhelés (overloading)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onos nevű, de különböző paraméterlistával rendelkező függvény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ódus felüldefiniálás (overriding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 gyerekosztályban felüldefiniálhatjuk az ősosztályban definiált függvény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ősosztály típusú mutatón vagy referencián keresztül érjük el az osztályhierarchia példányait és ezen keresztül meghívjuk a felülírt metódust, akkor futási időben dől el, hogy pontosan melyik metódus kerül meghívásra. (kései kötés / late bin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F950-5153-406D-A9AA-3ED967BA000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perátorok - Aritmetikai művel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+ kif2 : össze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– kif2 : kivon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* kif2 : szor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/ kif2 : 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f1 % kif2 : maradékos 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kif : ellentett kép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57D2-72A0-48D9-8D34-3CD122C0A62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09-12T13:52:19Z</dcterms:modified>
  <cp:revision>118</cp:revision>
  <dc:subject/>
  <dc:title>1. dia</dc:title>
</cp:coreProperties>
</file>