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D3A8-AEEA-483F-9DD1-AD561D80442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E893-F414-4A7E-8021-CC1B1B505F8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131-9C2F-4874-B687-E2A30727952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FEB-E060-4942-AEBF-F04B1593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265-CFC3-4AF8-8278-674697BE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A13-802E-4143-A060-607C02C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218-8238-493A-8F9B-8C979E6B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E41-7CE6-4852-8B72-D6798D0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478-A446-40C3-895A-F6AF6705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6EF-971C-43D9-A106-64EA5BB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77A-EDD4-4C4F-8724-0A387A3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945-1215-421A-A30C-505F5A98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87D-3005-4E4F-ACC0-263AAC8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72E-107B-43F3-A817-30E56D30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3A1-9FF7-46A2-B7EB-BC569A2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6F2-8D92-433D-9E79-8085B4DF0F6F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3D6A-F102-4124-B6B4-81494D49A61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333-D6D6-4A28-9EC5-0A5D0F473C9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goo.gl/rBfhS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dat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gned/un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hort, int, long, long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loat, double, long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interek és tömbök ( void*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nion, str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gramozás alapjai és Programozá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EB87-F025-42D4-8B60-07D5ED51F65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ain függv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main(int argc, char *argv[], char *envp[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zdő eljárás minden C/C++ program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gc: argument count, a parancssori paraméter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gv: argument vector, a parancssori argumentumok (string) címeit tartalmazó 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dexelés 0-tól, utolsó argumentum utá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p: környezeti változók címeit tartalmazó 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6A11-BC09-47DC-B548-C3C88BA0E9B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printf/sca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rintf(const char * format, ...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”Az %d annyi, mint öt”, 5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Visszatérési érték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canf(const char * format, ...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=-1;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”Mennyi az x értéke?”);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”%d”, &amp;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sszatérési érték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FEC2-6594-473A-B580-507EA1E4DC6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verziós karak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5880" y="1571760"/>
          <a:ext cx="7500960" cy="3857400"/>
        </p:xfrm>
        <a:graphic>
          <a:graphicData uri="http://schemas.openxmlformats.org/drawingml/2006/table">
            <a:tbl>
              <a:tblPr/>
              <a:tblGrid>
                <a:gridCol w="1865160"/>
                <a:gridCol w="56358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lent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vagy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 szám (inte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begőpontos szám (flo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kter (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öveg (st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vag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dományos (mantissza/expone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2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t % segítségével lehet megjeleníteni egy darab százalékje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megjelenítésének pontossá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9C4-C437-4C9F-B931-9552D39904B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zövegdoboz 7"/>
          <p:cNvSpPr/>
          <p:nvPr/>
        </p:nvSpPr>
        <p:spPr>
          <a:xfrm>
            <a:off x="500040" y="54291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intf(”Egy %s megevett %03d csirkét”, ”kutya”, 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gy kutya megevett 012 csirk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fopen/f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ILE *fopen(const char *filename, const char *mode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nyitási módok: r – olvasás, w – írás, a – append, b – bináris, t – szöveges, stb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nt fclose(FILE *strea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LE *f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le = fopen(”cseresznye.txt", "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clos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39E9-6F27-404E-BEA9-0E02B62935C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fprintf/fsca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400" y="1599840"/>
            <a:ext cx="84294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fprintf ( FILE * stream, const char * format, ...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printf( file, "%d cseresznye a fájlba.\n",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fscanf ( FILE * stream, const char * format, ...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n-NO" sz="24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n-NO" sz="2400" spc="-1" strike="noStrike">
                <a:solidFill>
                  <a:srgbClr val="000000"/>
                </a:solidFill>
                <a:latin typeface="Arial"/>
              </a:rPr>
              <a:t>fscanf( file, "%d"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DA1-9C20-45DA-88EC-74090865491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raktertömb, melynek végét \0 jel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után használható függvény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_t strlen( const char *s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ként kapott string méretét adja vissza (\0 karakter előttig számol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py( char *s1, const char *s2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 tartalmát az s1 karaktertömbbe más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ncpy(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ből (legfeljebb) n számú karaktert másol s1-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A7C3-1D61-45DA-8012-A067450B3CC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at( char *s1,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 tartalmát hozzáfűzi s1-hez (s1 végi \0-t törli, és a hozzáfűzött s2 végére tes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ncat(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 karaktert fűz s1 végéhez s2-b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hr( const char *s,  int c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tringben a megadott c karakter legelső előfordulására mutató pointert ad vissza. (NULL, ha nem fordul elő ben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rchr( const char *s,  int c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adott c karakter utolsó előfordulására mutató pointert ad vissza. (NULL, ha nem fordul el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4073-FC17-4B40-AD15-B67151F23B5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 strcmp( const char *s1,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ja s1 és s2 stringet. Visszatérési értéke 0, ha a két string egyforma. &lt;0, ha s1 &lt; s2.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gt;0, ha s1 &gt; s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 strncmp( const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cmp-hez hasonló, az első n karaktert vizsg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str( const char *s1, 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s2 string előfordul s1-ben, az s2 kezdetére mutató pointert ad vissza. NULL külön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har *strrev( const char *s1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ordítja a string tartalm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DCDC-359B-4BE9-92A9-E41E0CA189E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C79-C65F-40C9-A91D-D2303A9AE20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érhetősége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tal Gá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mail: antal@inf.u-szeged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eblap: http://inf.u-szeged.hu/~a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gadóó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marosa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lőzetes egyeztetés alapján bármik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ok időpont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orlattal kapcsolatos email-ek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csa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studos e-mail cím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5736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kötelező program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gen/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re megadott listából kap majd mindenki feladat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ső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október 15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ásodik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november 19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lati vizsga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100 pont / 50 pon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megadott program elkészítése (2 ó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két hétben legalább egyszer el kell m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javítási lehetőség, minimum pontszámé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0C31-7A7A-488F-93C1-C2652318FC2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1448-2783-49F3-8519-27082D99E24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ok látogatás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TEL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ttőnél több igazolatlan hiányzás esetén a kurzus nem teljesítettnek minős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gazolásokat a hiányzást követő első órán kell bemutatni az oktatónak (vagy fogadóórán) – később bemutatott igazolá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erül elfogad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on szerezhető pluszpontok nem számítanak bele a minimum pontszá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adásra járni kötel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élév során 3 db kisdolgozat, az előadások vég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darabot lehet javítani/pótolni, az utolsó előadá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2242-D30C-4543-80E8-92653EC7CAC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4437000"/>
          <a:ext cx="7417080" cy="1482840"/>
        </p:xfrm>
        <a:graphic>
          <a:graphicData uri="http://schemas.openxmlformats.org/drawingml/2006/table">
            <a:tbl>
              <a:tblPr/>
              <a:tblGrid>
                <a:gridCol w="1812960"/>
                <a:gridCol w="1979640"/>
                <a:gridCol w="1811520"/>
                <a:gridCol w="1812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á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érhető p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ad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3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Jav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őadás kisdolgoz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 javítható/pótolható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ljes pontszám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vábbi kérdés, kérés, probléma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lőa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valyi pontok áthozása (aki érintet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goo.gl/rBfh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telező pro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javítható/póto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Gyakorlati vizs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 javítható, minimum pont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3F76-FBD6-406D-B22B-AF9308FB094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CEC3-496C-44AC-BAE6-D86EDABCA4A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on szerezhető pontok: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llokviumon szerezhető pontok: 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85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75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64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e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50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ég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lt; 50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CBE-1E49-4CBA-AC99-6D6450D8AEB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Herbert Schildt: C/C++ Referenciakönyv Panem Kft Budapest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Scott Meyers: Hatékony C++, ISBN:  9639193828, Scolar Kiadó Budapest,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d0d0d"/>
                </a:solidFill>
                <a:latin typeface="Arial"/>
              </a:rPr>
              <a:t>Bjarne Stroustrup: A C++ Programozási nyelv I-II.</a:t>
            </a: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, ISBN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9789639301191</a:t>
            </a: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, Kiskapu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https://buckysroo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pub/Programozas-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d0d0d"/>
                </a:solidFill>
                <a:latin typeface="Arial"/>
              </a:rPr>
              <a:t>https://www.tutorialspoint.com/c_standard_library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SI C, 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05T13:31:59Z</dcterms:modified>
  <cp:revision>98</cp:revision>
  <dc:subject/>
  <dc:title>1. dia</dc:title>
</cp:coreProperties>
</file>