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5CCC-11CC-423B-B99D-8F355FE68B7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0290-DEA2-413E-AD84-F0772E7D5D6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9AF4-286F-4472-B40E-3B792159330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2814-AA64-4945-91DF-56794C760D8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3270-50F1-43BC-B170-134B27E929C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7CA3-22A3-4A4C-B4BF-354AB9B7CDD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6A0D-56A0-48DE-8E7F-B680125B7C6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226A-DD6D-4701-B35E-7C1A139F027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615B-8FD4-4566-A5EE-10DE7A2BA07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CB06-7229-4317-90BF-78EC7913C8A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46D1-9B81-43A8-955B-947A0E7B66A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632D-B5B3-42D9-9869-39C2009F6C1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7322-D730-4992-9233-70D5B6DEBC9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C2E2-F628-4BC5-B503-E1DC2695FF7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327C-1C16-46C2-BAA1-AA8672CFA49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98FE-9BB2-474B-9D33-843E5CA040F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491E-CBE0-4F38-A194-E84A4D88CBF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CD98-3366-412E-BF01-67BEB6A0E42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8974-D51F-402B-8747-FB8872F2D39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90BA-19AA-4E2E-88DA-3EA54D09356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77A0-59F4-4C7C-BAB5-5A7991A6A62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4CB9-2B3F-419D-849A-5474C590189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955B-E4F3-46E6-B3ED-D0A5D86C5DF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2FF6-FEC9-4854-A258-75B00A1A068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5F9F-F117-4EBE-9DCD-F7C28C9E8B8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0869-952E-4F60-954D-2D591772E55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FB32-5B5E-4A68-9F3C-F7B924FC8A7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E389-621B-436E-BCAF-468153494A9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BF04-A59B-4C12-9ADD-12D40470BC8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7694-B83B-4BEE-9F40-405930DC283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084-3666-4C4D-8CB7-C8BB0124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64C-4D3D-4C13-8988-ED71D236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843-2536-4462-8370-3AE98E08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BB6-EDDA-423E-B5DA-C5CE9469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D0B-90E5-4E33-8904-E9947563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18F-2EEB-461C-A322-58CA13BF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DA8-F905-468B-9482-2BA13817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15B-668A-45EB-B2AF-B3C6BF50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75F-9B0D-4B80-B78A-7A85AA18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E94-D939-4D5D-885C-A837226A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3DB-652C-480D-890F-3D8FA92A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738-2913-4BDC-B42B-91E7A0AD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A7AC-618D-44B7-8C45-B89A88A6300E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8BAA-A0AF-4C99-ACC5-C0FD046B293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9" descr="adatbázisvonal"/>
          <p:cNvPicPr/>
          <p:nvPr/>
        </p:nvPicPr>
        <p:blipFill>
          <a:blip r:embed="rId2"/>
          <a:stretch/>
        </p:blipFill>
        <p:spPr>
          <a:xfrm>
            <a:off x="7074000" y="3429000"/>
            <a:ext cx="2070000" cy="34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adatbázisvonal"/>
          <p:cNvPicPr/>
          <p:nvPr/>
        </p:nvPicPr>
        <p:blipFill>
          <a:blip r:embed="rId2"/>
          <a:stretch/>
        </p:blipFill>
        <p:spPr>
          <a:xfrm>
            <a:off x="7072200" y="3427560"/>
            <a:ext cx="2071800" cy="3430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038B-99B6-4882-84A4-50B55D512C2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ublic class Ember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ivate String nev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ivate int kor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ublic void beszel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(){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v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” beszel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ányos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ublic class Program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ublic static void main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args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){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Ember jozsi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Ember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();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// példány jozsi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szel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();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átható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érés vezérlése (külső osztály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attagok és metódusok láthatóságát korlátozni k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OO fontos eleme az implementáció elrejtése: a felhasználó használhatja anélkül, hogy pontosan ismerné a működését (kevesebb programhi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áthatóság beállításával módosíthatjuk, hogy ki mit érhet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nincs megadva láthatóság, akkor package-private lesz („friendly”)  (nincs kulcsszav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omagon belül public, csomagon kívül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átható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láthatóság ezen kívül leh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minden külső osztály számára látható, szabadon használhat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az adott osztály és a gyerekosztályai használhatjá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az osztályon kívül nem érhető el, csak az adott osztályon belül, ahol létrehoztá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 adattagok általában private láthatóságú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in függvény mindig public láthatóság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en a futtatókörnyezet nem férne hozz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átható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614840"/>
          </a:xfrm>
          <a:prstGeom prst="rect">
            <a:avLst/>
          </a:prstGeom>
          <a:ln w="0">
            <a:noFill/>
          </a:ln>
        </p:spPr>
      </p:pic>
      <p:sp>
        <p:nvSpPr>
          <p:cNvPr id="13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361E-8CAC-45A9-BF7A-601AF4D5037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428760" y="2214720"/>
            <a:ext cx="82566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ülönleges metód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ve meg kell egyezzen az osztály nevé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isszatérési értéke/típusa nincs (nem lehe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új objektum létrejöttekor fut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tagok inicializálására használjuk leggyakrab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ltalában public láthatóság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efault konstruk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egy konstruktornak nincsenek paraméterei, akkor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default konstruktor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ak, ellenkező esetben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paramétere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konstruktor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ak nevezz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értelmezett beállításokkal rendelkező objektumok létrehozására használj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nem készítünk semmilyen konstruktort a fordító létrehoz egy default konstrukt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legalább egy konstruktort készítettünk, akkor nem jön létre default konstru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ruktor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 class Pont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ivate int x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ivate int y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 Pon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//default konstru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 Pon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xErtek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t yErtek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//parameteres konstru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xErtek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yErtek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peráció kiterjesztése (overloading): Ugyanaz a függvénynév, de más a paraméter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áttuk a konstruktoroknál, de egyéb metódusokra is működik, pl.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oid osszeAd(int a, int 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oid osszeAd(int a, int b, int 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oid osszeAd(int a, double 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Getter/S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dattagok értékeinek lekérésére (getter), valamint inicializálás utáni módosítására (setter) használj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nevezési szabá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etter: getAdattagNev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sszatérési típusa: az adattag típ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z adattag boolean, akkor get helyett is-t használunk, pl.: boolean ferfi;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isFerfi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etter: setAdattagNev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sszatérési típusa vo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ömb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nél több érték tárolására vannak kitalálva, de az elemek száma rögzíte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ott számú, azonos típust tartalmazó adattí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ndexelés 0-val kezdőd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mböket dinamikusan, a new operátorral lehet létrehozni, mérete a length adatmezővel lekérdezhet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Java teljes körű indexhatár-ellenőrzést végez, kivétellel jelzi, ha alul- vagy túlindexelés törté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C2E9-EB99-4D2D-AB91-50BF2998A359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Getter/S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élda getter metódusok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ublic class Alma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ivate int tomeg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ivate boolean ferges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ublic int getTomeg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tomeg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ublic boolean isFerges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ferges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Getter/S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élda setter metódusok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ublic class Alma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ivate int tomeg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ivate boolean ferges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ublic void setTomeg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nt t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omeg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ublic void setFerges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boolean f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erges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his kulcssz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ivatkozás az aktuális objektum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kkor használjuk, ha egy metódus formális paraméterének neve megegyezik az egyik adattag nevével, példáu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blic Pont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 x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int y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his.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his.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atic kulcssz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dattag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esetén: ugyanazon a helyen tárolódik az összes példány </a:t>
            </a:r>
            <a:r>
              <a:rPr b="0" lang="hu-H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ugyanaz lesz az értéke bármely objektumpéldány ese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ma osztály adattagja legyen: tomeg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c static int tomeg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Alma típusú objektum tömege ugyanannyi le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tikus adattag objektumpéldány nélkül is létez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lma osztály tömeg adattagjára hivatko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ma.tomeg;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HA publikus az adattag!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atic kulcssz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etódu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esetén: Objektum létrehozása nélkül is meghívhat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.: public static void main(), Integer.parseIn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felüldefiniál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atikus metódusban csak statikus adattagok használható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inal kulcssz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dattag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esetén: az adattag kezdeti értékét nem változtathatjuk meg (adni kell kezdőértéke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.: private final int tomeg =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omeg=20; // Fordítási hiba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etódu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esetén: a gyerekosztályban nem lehet felüldefiniál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.: public final leesik(){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private metódus impiciten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inal kulcssz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Osztál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esetén: nem lehet gyerekosztál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.: final class Alma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metódusa impliciten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primitív típusokra használva nem az osztály final, hanem a re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lódi konstans létrehozása a static és final kulcsszavakk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zdőértékük nem változtatható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vüket csupa nagybetűvel szoktuk ír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óhatárnál aláhúzást teszü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c class Alma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c static final int ALMA_TOMEG =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ek elérése kívülrő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 a_tom = Alma.ALMA_TOME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Garbage colle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bjektumok élettartama Java-b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lettartam: objektum létrejöttétől a felszabadítás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étrejöttekor (new kulcsszóval) a heapen keletkezik (ellentétben a primitív típusokk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szabadítás: automatikus, a garbage collector („Szemétgyűjtő”) vég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ulcsszó: Azt jelöli, hogy az adott referencia nem hivatkozik egyetlen objektumra sem (pl. jozsi = null;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arbage collector hívása manuálisan (nem biztos hogy lefu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ystem.gc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://en.wikipedia.org/wiki/Object_lifetime#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rj egy osztály, amely téglalapot reprezentál,annak oldalhosszait tárol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rj az osztálynak egy default konstruk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rj az osztálynak egy konstruktort, amely egy paramétert vár és amellyel négyzet hozható lé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rj az osztálynak metódusokat a kerület és a terület kiszámításá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rj egy futtatható osztályt, amely parancssori paraméterek alapján létrehoz objektumokat a Téglalap osztályból, majd kiszámolja azok területeinek kerületeinek átlagá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gydimenziós tömb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gyetlen kiterjedéssel rendelkező tömböket szokás vektornak is neve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finíció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ípus tömbnév[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ípus[ ] tömbné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ömböt futás során a new operátorral hozzuk lé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w típus[ méret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éret egy nemnegatív egész szám, értéke nem lehet nagyobb, mint az Integer.MAX_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: int[ ] x = new int[5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mei: x[0], x[1], x[2], x[3], x[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ocsmaszimulátor: http://www.inf.u-szeged.hu/~antal/prog1gyak/gyak4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066A-4D51-476F-9BB0-CF585CC576B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gydimenziós tömb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Java lehetővé teszi, hogy a tömböket a definiálás során konstans értékekkel töltsük fel. Ilyenkor a tömböt a fordító hozza lé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ípus[ ] tömbnév = { konstans1, konstans2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[ ] arr = { 1, 2, 3, 4, 5 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öbbdimenziós tömb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ömbhivatkozás definíciój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ípus[ ] [ ] ... [ ] tömbné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ípus tömbnév[ ][ ] ... [ 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D-s tömb létrehozás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w típus[ méret1 ][ méret2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icializálás konstans értékekke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[ ][ ] matrix = {  { 1, 2 }, { 3, 4 } 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inamikus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[ ][ ] matrix = new int[ 2 ][ 2 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ömbök máso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3296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ystem.arraycopy() metódus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c static void arraycopy(Object forrás, int forrásKezdetiElem, Object cél, int kezdetiPozíció, int hoss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har[] copyFrom = { 'd', 'e', 'c', 'a', 'f', 'f', 'e', 'i', 'n', 'a', 't', 'e', 'd' }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har[] copyTo = new char[7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ystem.arraycopy(copyFrom, 2, copyTo, 0, 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ystem.out.println(new String(copyTo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9ECD-E07A-4412-B717-E1B84C76818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357720" y="4714920"/>
            <a:ext cx="49813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ozzunk létre egy 7*10-es int-eket tartalmazó tömböt, töltsük fel ők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ömb[x][y] = x*y; (pl.: tömb[5][8] = 40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ozzunk létre egy karakter tömböt ‘t’ ‘e’ ‘l’ ‘e’  ‘f’ ‘o’ ‘n’ karakterek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soljuk egy új tömbbe a ‘l’ ‘e’ karaktere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sztá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objektumok formai leírása, melyek azonos tulajdonságokkal és operációkkal rendelkez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sztályokból objektumokat készítü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t példányosításnak nevezz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n objektum pontosan egy osztály példá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osztályból több objektumpéldány is létrehozhat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sztá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osztálynak lehetne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tagj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tódu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tagok megad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[láthatóság] [static] [final] [transient] [volatile] típus változóNé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tódusok megad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[láthatóság] [static] [abstract] [final] [native] [synchronized] visszatérésiTípus metódusNév ([paraméterek]) [throws kivételList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6084720" y="5084640"/>
            <a:ext cx="100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788000" y="37162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Windows User</cp:lastModifiedBy>
  <cp:lastPrinted>2017-03-06T09:52:21Z</cp:lastPrinted>
  <dcterms:modified xsi:type="dcterms:W3CDTF">2018-03-08T06:11:27Z</dcterms:modified>
  <cp:revision>164</cp:revision>
  <dc:subject/>
  <dc:title>1. dia</dc:title>
</cp:coreProperties>
</file>