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B804C-4E19-490E-837B-D228055DC4C5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E5452-0F1E-4ABA-B557-83D7A0D80B03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CC54C-FD0C-4446-BF27-3C76EAA7DA51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9905D-6025-48DA-83C7-83989006828A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CC0E-D169-4E2A-A3A5-A4FCE0CBD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48EF-43F2-4401-B0F8-B3BDE464A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F9E4-F245-43CC-AFD9-47A0E48C0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A57A-4E67-487C-9631-BDC3D834F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C2DB-E9FD-4C1A-836F-5FD57420C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F15D-2416-4F91-B4F8-4D95C14A9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74BB-5C52-4483-B67F-AEDAB1529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5DA3-5B50-42CC-A36D-BBEC1688E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3E23-914D-4D7B-A56B-830F3C0BF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DB76-51F8-42CB-9591-9CCAA0E62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D2F3-BBFF-4399-BD14-F3C6D4B88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4FE1-5696-45E9-B79B-7815CD05A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da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a7744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Times New Roman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a7744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Times New Roman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59600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a7744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59A6D-547B-4CCC-BC82-3367F0A50532}" type="slidenum">
              <a:rPr b="0" lang="hu-HU" sz="1400" spc="-1" strike="noStrike">
                <a:solidFill>
                  <a:srgbClr val="a7744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468360" y="1557360"/>
            <a:ext cx="8207280" cy="4680000"/>
          </a:xfrm>
          <a:prstGeom prst="rect">
            <a:avLst/>
          </a:prstGeom>
          <a:solidFill>
            <a:srgbClr val="cdb279"/>
          </a:solidFill>
          <a:ln w="9360">
            <a:solidFill>
              <a:srgbClr val="a784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9"/>
          <p:cNvSpPr/>
          <p:nvPr/>
        </p:nvSpPr>
        <p:spPr>
          <a:xfrm>
            <a:off x="468360" y="260280"/>
            <a:ext cx="8207280" cy="1152720"/>
          </a:xfrm>
          <a:prstGeom prst="rect">
            <a:avLst/>
          </a:prstGeom>
          <a:solidFill>
            <a:srgbClr val="a77447"/>
          </a:solidFill>
          <a:ln cap="rnd" w="9360">
            <a:solidFill>
              <a:srgbClr val="765232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1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951C8-0101-4B41-BD2B-893319E8AB11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16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17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" name="Picture 9" descr="adatbázisvonal"/>
          <p:cNvPicPr/>
          <p:nvPr/>
        </p:nvPicPr>
        <p:blipFill>
          <a:blip r:embed="rId2"/>
          <a:stretch/>
        </p:blipFill>
        <p:spPr>
          <a:xfrm>
            <a:off x="7074000" y="3429000"/>
            <a:ext cx="2070000" cy="342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da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7"/>
          <p:cNvSpPr/>
          <p:nvPr/>
        </p:nvSpPr>
        <p:spPr>
          <a:xfrm>
            <a:off x="468360" y="260280"/>
            <a:ext cx="8207280" cy="5977080"/>
          </a:xfrm>
          <a:prstGeom prst="rect">
            <a:avLst/>
          </a:prstGeom>
          <a:solidFill>
            <a:srgbClr val="cdb279"/>
          </a:solidFill>
          <a:ln w="9360">
            <a:solidFill>
              <a:srgbClr val="a784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9" descr="adatbázisvonal"/>
          <p:cNvPicPr/>
          <p:nvPr/>
        </p:nvPicPr>
        <p:blipFill>
          <a:blip r:embed="rId2"/>
          <a:stretch/>
        </p:blipFill>
        <p:spPr>
          <a:xfrm>
            <a:off x="7072200" y="3427560"/>
            <a:ext cx="2071800" cy="343044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10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A566C-3670-476E-97B6-6B88674711FC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1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2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Programozás I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3. gyakorl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Operátor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5998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Bitművelete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Bitenkénti És (&amp;), Bitenkénti Vagy (|), Kizáró Vagy (^), Komplementer képzés (~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&amp;=,  |=, ^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Háromoperandusú if-else ( ?: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feltetel ? muvelet_ha_igaz : muvelet_ha_ham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Értékadás, összevont értékadás (balhoz a jobb oldal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=, +=, -=, *=, /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299C8-8AF5-4A97-A3B6-073D9BA304C5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Operátor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Logik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És (&amp;&amp;), Vagy (||), Negálás (!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Csak boolean értékekre használhatóak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Összetett kifejezések addig értékelődnek ki, amíg egyértelműen ki nem derül a kifejezés értéke: lusta kiértékel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pl.: if( arg1==0 || arg2 == 1 || arg3 == 0 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Relációk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!=, ==, &gt;=, &lt;=, &lt;, 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logikai értékkel térnek viss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primitív típusoknál érték szerint hasonlít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objektumoknál referencia  összehasonlítás ( objektum összehasonlításra a .equals() metódus használatos 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zövegdoboz 1"/>
          <p:cNvSpPr/>
          <p:nvPr/>
        </p:nvSpPr>
        <p:spPr>
          <a:xfrm>
            <a:off x="3924360" y="1630440"/>
            <a:ext cx="53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http://en.wikipedia.org/wiki/Short-circuit_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Operátor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5998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Bitléptető operátorok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Előjeltartó (&gt;&gt;,&lt;&lt;), Előjeltelen(&gt;&gt;&gt;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balra (&lt;&lt;) : 2 n-edik hatványával szorozzuk a szám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jobbra ( &gt;&gt;) : 2 n-edik hatványával osztjuk a számo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Vessző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for ciklusban (,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dott típusból több változó definiálásak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Típuskonverzió: (type)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primitívek között korlátozás nélkül engedélyezet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objektumok között csak az öröklődési fán belü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pl.: double c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c = 5/2;  (c értéke 2.0 lesz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c = ((double)5/2); (c értéke 2.5 les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5D943-993D-4C99-B816-C599A4F11AC2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Inkrementálás/dekrementálá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5998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int a = 5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int b = ++a;  (prefix operátor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növelése, majd értékadás (b értéke 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int c = a++;  (postfix operát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c értéke 5 lesz, majd az értékadás után növelődik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Ugyanez a helyzet a „--a”, és „a--" -nál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Példaprogram</a:t>
            </a: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Operatorok.java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(pu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82291-1220-4EEB-B839-9D329C1D65C8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Vezérlési szerkezet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Minden C-beli vezérlési szerkezetet támogat a J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Kivéve a goto-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kulccszó létezik, de nincs implementál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soha ne használjuk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if, for, while, swit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Címké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7E10D-1817-4D0F-B663-77365AA5BFB9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Vezérlési szerkezet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If-else if - else, valamint swit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5" descr=""/>
          <p:cNvPicPr/>
          <p:nvPr/>
        </p:nvPicPr>
        <p:blipFill>
          <a:blip r:embed="rId1"/>
          <a:stretch/>
        </p:blipFill>
        <p:spPr>
          <a:xfrm>
            <a:off x="539640" y="2205000"/>
            <a:ext cx="3753000" cy="26481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6" descr=""/>
          <p:cNvPicPr/>
          <p:nvPr/>
        </p:nvPicPr>
        <p:blipFill>
          <a:blip r:embed="rId2"/>
          <a:stretch/>
        </p:blipFill>
        <p:spPr>
          <a:xfrm>
            <a:off x="4427640" y="2205000"/>
            <a:ext cx="4305240" cy="17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Vezérlési szerkezet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While, Do-While,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539640" y="2781360"/>
            <a:ext cx="7993080" cy="31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Kime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5998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lapértelmezett kime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System.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lapértelmezett hibakime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System.er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Mindkettőnél használhatju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println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print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printf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C9773-9585-4772-B449-DF723DCC98B5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Felad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5998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Írd ki a parancssori paramétereket úgy, hogy az első sorba csak az elsőt, a másodikba az első kettőt szóközzel elválasztva, a harmadikba az első hármat, stb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java Main egy ketto kutya cica fagy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gy ket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gy ketto kuty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gy ketto kutya c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gy ketto kutya cica fagy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EEAD4-66FF-427D-82DB-FF05F57B1BDE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Felad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5998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Számítsd ki a parancssoron kapott két időpont (óra perc óra perc) között eltelt időt, és írasd ki a konzolra (óra perc formában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program elkészítése során ügyelj az adatok helyességé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bemenő paraméterek szá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z órák 0-23 intervallumba kell, hogy essen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percek 0-59 intervallumba kell, hogy essene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2B1A7-A4C9-4874-BFFB-607F91A279F5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Parancssori arg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5998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minden parancssorból indított Java alkalmazásnak átadhatunk argumentumokat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ezeket a main függvény 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args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nevezetű String tömbjében érjük el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public static void main(String[] ar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tömbindexelés 0-tól kezdőd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0. indexen lévő argumentum 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nem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a program nev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paraméterek darabszáma: 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args.length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, egy egész értéket (int) ad viss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9362D-B130-4E22-BF9E-C9A06233CEDC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Felad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5998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 parancssori paraméterek alapján döntsd el, hogy egy a bemenő számo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számtani (a</a:t>
            </a:r>
            <a:r>
              <a:rPr b="0" lang="hu-HU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= a</a:t>
            </a:r>
            <a:r>
              <a:rPr b="0" lang="hu-H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+ (n – 1) * d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mértani (a</a:t>
            </a:r>
            <a:r>
              <a:rPr b="0" lang="hu-HU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= a</a:t>
            </a:r>
            <a:r>
              <a:rPr b="0" lang="hu-H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* q </a:t>
            </a:r>
            <a:r>
              <a:rPr b="0" lang="hu-HU" sz="2800" spc="-1" strike="noStrike" baseline="30000">
                <a:solidFill>
                  <a:srgbClr val="000000"/>
                </a:solidFill>
                <a:latin typeface="Arial"/>
              </a:rPr>
              <a:t>n – 1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egyik s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Feltehetjük, hogy mindegyik egész szám, és legalább 3 db paraméterünk v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242EF-A6FD-4393-AA02-9A9B7E787564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Házi felad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Írd ki a parancssori paramétereket a konzol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Írd ki a parancssori paramétereket a konzolra, fordított sorrendb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Írd ki a parancssori paraméterek közül a legnagyobbat, legkisebbet, valamint az értékek átlagát. (korábban zh-n volt ilyen feladat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Parancssori arg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95280" y="148392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700" spc="-1" strike="noStrike">
                <a:solidFill>
                  <a:srgbClr val="000000"/>
                </a:solidFill>
                <a:latin typeface="Arial"/>
              </a:rPr>
              <a:t>Integer.parseInt(args[0])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700" spc="-1" strike="noStrike">
                <a:solidFill>
                  <a:srgbClr val="000000"/>
                </a:solidFill>
                <a:latin typeface="Arial"/>
              </a:rPr>
              <a:t>az args tömb első elemét számmá alakítjuk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z args tömb egy String tömb, nekünk viszont int-re van szükségünk, ezért át kell alakítani (Ez csak akkor működik, ha tényleg számokat adunk át paraméterne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700" spc="-1" strike="noStrike">
                <a:solidFill>
                  <a:srgbClr val="000000"/>
                </a:solidFill>
                <a:latin typeface="Arial"/>
              </a:rPr>
              <a:t>általános alak: &lt;Típus&gt;.parse&lt;Típus&gt;(”string”)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700" spc="-1" strike="noStrike">
                <a:solidFill>
                  <a:srgbClr val="000000"/>
                </a:solidFill>
                <a:latin typeface="Arial"/>
              </a:rPr>
              <a:t>&lt;Típus&gt; lehet: Integer, Double, Float, stb.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Integer.parseInt(“5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Double.parseDouble(“6.15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Viszont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: String.valueOf(&lt;bármi&gt;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40EEB-4589-44E3-B2DC-A9593F222C7D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Primitív típus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Élőláb helye 4"/>
          <p:cNvSpPr/>
          <p:nvPr/>
        </p:nvSpPr>
        <p:spPr>
          <a:xfrm>
            <a:off x="741528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2212A-4F7C-4B6B-9C3B-C406E47BEEA1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68360" y="476280"/>
          <a:ext cx="8209080" cy="5575320"/>
        </p:xfrm>
        <a:graphic>
          <a:graphicData uri="http://schemas.openxmlformats.org/drawingml/2006/table">
            <a:tbl>
              <a:tblPr/>
              <a:tblGrid>
                <a:gridCol w="1281240"/>
                <a:gridCol w="1858680"/>
                <a:gridCol w="1171800"/>
                <a:gridCol w="1172880"/>
                <a:gridCol w="2724480"/>
              </a:tblGrid>
              <a:tr h="534960">
                <a:tc>
                  <a:txBody>
                    <a:bodyPr lIns="89640" rIns="89640" tIns="44640" bIns="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ípus ne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89640" rIns="89640" tIns="44640" bIns="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Érté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89640" rIns="89640" tIns="44640" bIns="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apérté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89640" rIns="89640" tIns="44640" bIns="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oglalt tá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89640" rIns="89640" tIns="44640" bIns="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tervallu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</a:tr>
              <a:tr h="379440">
                <a:tc>
                  <a:txBody>
                    <a:bodyPr lIns="89640" rIns="89640" tIns="44640" bIns="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y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9640" rIns="89640" tIns="44640" bIns="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őjeles egés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9640" rIns="89640" tIns="44640" bIns="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9640" rIns="89640" tIns="44640" bIns="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b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9640" rIns="89640" tIns="44640" bIns="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28 – 1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77640">
                <a:tc>
                  <a:txBody>
                    <a:bodyPr lIns="89640" rIns="89640" tIns="44640" bIns="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9640" rIns="89640" tIns="44640" bIns="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őjeles egés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9640" rIns="89640" tIns="44640" bIns="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9640" rIns="89640" tIns="44640" bIns="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 b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9640" rIns="89640" tIns="44640" bIns="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2768 – 327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35320">
                <a:tc>
                  <a:txBody>
                    <a:bodyPr lIns="89640" rIns="89640" tIns="44640" bIns="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9640" rIns="89640" tIns="44640" bIns="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őjeles egés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9640" rIns="89640" tIns="44640" bIns="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9640" rIns="89640" tIns="44640" bIns="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 b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9640" rIns="89640" tIns="44640" bIns="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147483648 - 21474836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975960">
                <a:tc>
                  <a:txBody>
                    <a:bodyPr lIns="89640" rIns="89640" tIns="44640" bIns="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9640" rIns="89640" tIns="44640" bIns="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őjeles egés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9640" rIns="89640" tIns="44640" bIns="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9640" rIns="89640" tIns="44640" bIns="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 b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9640" rIns="89640" tIns="44640" bIns="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9223372036854775808 -  92233720368547758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750960">
                <a:tc>
                  <a:txBody>
                    <a:bodyPr lIns="89640" rIns="89640" tIns="44640" bIns="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o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9640" rIns="89640" tIns="44640" bIns="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EEE 754 lebegőpont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9640" rIns="89640" tIns="44640" bIns="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9640" rIns="89640" tIns="44640" bIns="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 b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9640" rIns="89640" tIns="44640" bIns="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/-1.4E-45 </a:t>
                      </a: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/-3.40E+38,</a:t>
                      </a:r>
                      <a:br>
                        <a:rPr sz="1600"/>
                      </a:b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/-infinity, +/-0, N</a:t>
                      </a: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822600">
                <a:tc>
                  <a:txBody>
                    <a:bodyPr lIns="89640" rIns="89640" tIns="44640" bIns="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u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9640" rIns="89640" tIns="44640" bIns="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EEE 754 lebegőpont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9640" rIns="89640" tIns="44640" bIns="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9640" rIns="89640" tIns="44640" bIns="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 b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9640" rIns="89640" tIns="44640" bIns="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/-4.9E-324 </a:t>
                      </a: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</a:t>
                      </a:r>
                      <a:br>
                        <a:rPr sz="1600"/>
                      </a:b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/-1.</a:t>
                      </a: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+308,</a:t>
                      </a:r>
                      <a:br>
                        <a:rPr sz="1600"/>
                      </a:b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/-infinity, +/-0, N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77640">
                <a:tc>
                  <a:txBody>
                    <a:bodyPr lIns="89640" rIns="89640" tIns="44640" bIns="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9640" rIns="89640" tIns="44640" bIns="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co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9640" rIns="89640" tIns="44640" bIns="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\u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9640" rIns="89640" tIns="44640" bIns="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 b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9640" rIns="89640" tIns="44640" bIns="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\u0000 - \uFFF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820800">
                <a:tc>
                  <a:txBody>
                    <a:bodyPr lIns="89640" rIns="89640" tIns="44640" bIns="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ole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9640" rIns="89640" tIns="44640" bIns="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ue, fal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9640" rIns="89640" tIns="44640" bIns="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l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9640" rIns="89640" tIns="44640" bIns="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bit –nincs precíz def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9640" rIns="89640" tIns="44640" bIns="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ue, fal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Memóriaterület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5998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primitív típus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lokális változó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gyors, kic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He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objektum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globális, a program egésze alatt létező adat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lassú, de na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EB797-7D75-470D-914D-D91B25F902A9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Primitív típusok jellemző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5998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Stack-en jönnek lét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Mindig érték szerint tárolódn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minden más (objektumok) referencia szer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Csak előjeles típusok vanna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pl.: nincs unsigned int, csak 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3200" spc="-1" strike="noStrike">
                <a:solidFill>
                  <a:srgbClr val="000000"/>
                </a:solidFill>
                <a:latin typeface="Arial"/>
              </a:rPr>
              <a:t>Speciális osztályok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BigInteger - Akármekkora egész tárolásá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BigDecimal - Akármekkora szám tárolásá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Példaprogram: 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PrimitivTipusok.java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(pu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A6393-47DF-47D5-AF5C-84C8A010C55B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Csomagoló/Wrapper osztály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5998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500" spc="-1" strike="noStrike">
                <a:solidFill>
                  <a:srgbClr val="000000"/>
                </a:solidFill>
                <a:latin typeface="Arial"/>
              </a:rPr>
              <a:t>A primitív típusokat „becsomagolhatjuk” objektumokká, erre szolgálnak a wrapper osztályok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500" spc="-1" strike="noStrike">
                <a:solidFill>
                  <a:srgbClr val="000000"/>
                </a:solidFill>
                <a:latin typeface="Arial"/>
              </a:rPr>
              <a:t>Primitív típusokat objektumokként tudjuk kezelni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500" spc="-1" strike="noStrike">
                <a:solidFill>
                  <a:srgbClr val="000000"/>
                </a:solidFill>
                <a:latin typeface="Arial"/>
              </a:rPr>
              <a:t>stack helyett a heapen lesznek tárolv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500" spc="-1" strike="noStrike">
                <a:solidFill>
                  <a:srgbClr val="000000"/>
                </a:solidFill>
                <a:latin typeface="Arial"/>
              </a:rPr>
              <a:t>Implicit konverzió a wrapper osztály és a primitív típus közöt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500" spc="-1" strike="noStrike">
                <a:solidFill>
                  <a:srgbClr val="000000"/>
                </a:solidFill>
                <a:latin typeface="Arial"/>
              </a:rPr>
              <a:t>Minden primitív típusnak van csomagoló osztály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300" spc="-1" strike="noStrike">
                <a:solidFill>
                  <a:srgbClr val="000000"/>
                </a:solidFill>
                <a:latin typeface="Arial"/>
              </a:rPr>
              <a:t>int a;</a:t>
            </a:r>
            <a:r>
              <a:rPr b="0" lang="hu-HU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3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2300" spc="-1" strike="noStrike">
                <a:solidFill>
                  <a:srgbClr val="000000"/>
                </a:solidFill>
                <a:latin typeface="Arial"/>
              </a:rPr>
              <a:t> primitív típus, stacke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300" spc="-1" strike="noStrike">
                <a:solidFill>
                  <a:srgbClr val="000000"/>
                </a:solidFill>
                <a:latin typeface="Arial"/>
              </a:rPr>
              <a:t>Integer a = new Integer(4);  </a:t>
            </a:r>
            <a:r>
              <a:rPr b="0" lang="hu-HU" sz="23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2300" spc="-1" strike="noStrike">
                <a:solidFill>
                  <a:srgbClr val="000000"/>
                </a:solidFill>
                <a:latin typeface="Arial"/>
              </a:rPr>
              <a:t> objektum, heape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4CC79-388F-4024-BAB8-CD1D00403196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0"/>
          <p:cNvSpPr/>
          <p:nvPr/>
        </p:nvSpPr>
        <p:spPr>
          <a:xfrm>
            <a:off x="3070080" y="584820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http://en.wikipedia.org/wiki/Primitive_wrapper_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Csomagoló/Wrapper osztály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5998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Integer a 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new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Integer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Integer b 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new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Integer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= b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z „a” ugyanoda mutat, mint a „b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= new Integer(b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„b” értéke „a”-ba másolódi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Ha az a és b primitív típusú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int a = 5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int b = 3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=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értékadás, a értéke b les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B8D3B-00F5-4ACA-8092-B54C377C1FAD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Operátor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5998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Értékadá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primitív típusoknál értékmásolá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objektumoknál referenciamásol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tényleges másolás a copy konstruktor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Unáris aritmetik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Előjelváltás (+ , -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Inkrementálás/dekrementálás (++, --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Bináris aritmetik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Összeadás (+), kivonás (-), szorzás (*), osztás (/), maradékképzés (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D286E-2906-4ABF-B106-0B9F64F0A580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1T21:15:37Z</dcterms:created>
  <dc:creator>hapci</dc:creator>
  <dc:description/>
  <dc:language>en-US</dc:language>
  <cp:lastModifiedBy>Windows User</cp:lastModifiedBy>
  <dcterms:modified xsi:type="dcterms:W3CDTF">2018-02-28T21:58:06Z</dcterms:modified>
  <cp:revision>147</cp:revision>
  <dc:subject/>
  <dc:title>1. dia</dc:title>
</cp:coreProperties>
</file>