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D6F-6F11-48B9-9D81-89B9BC8C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060-F7A1-4B49-9042-E7D150E1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F07-7EE7-49FD-8DC9-5AA0E11B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74B-7D15-4554-945F-60F06244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32D-572E-40F4-947F-5BCD6D8C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661-A7F5-4507-B862-74E09367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FFF-D101-4B48-A138-31B96159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A21-71F6-4FF9-93EF-DD1E53F9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163-418A-4083-ABA2-FFCA3920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CA3-3B48-476A-BBA6-6E7B3C3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BFA-EF51-4500-9AA7-2FF4FC0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2BE-2AE2-4DF7-814B-2F827B38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8D5C-1F11-4DA7-BA4F-FC644E4A63A7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C83A-BA10-4DF3-B923-7D670C52A00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9" descr="adatbázisvonal"/>
          <p:cNvPicPr/>
          <p:nvPr/>
        </p:nvPicPr>
        <p:blipFill>
          <a:blip r:embed="rId2"/>
          <a:stretch/>
        </p:blipFill>
        <p:spPr>
          <a:xfrm>
            <a:off x="7074000" y="3429000"/>
            <a:ext cx="207000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datbázisvonal"/>
          <p:cNvPicPr/>
          <p:nvPr/>
        </p:nvPicPr>
        <p:blipFill>
          <a:blip r:embed="rId2"/>
          <a:stretch/>
        </p:blipFill>
        <p:spPr>
          <a:xfrm>
            <a:off x="7072200" y="3427560"/>
            <a:ext cx="2071800" cy="3430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71B0-2F27-43E7-B443-0FA54F61D6F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ztályokból osztálydiagramokat állíthatunk össze, mely leírja a programunk szerkezet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8F8D-C37D-4E58-8AF0-60DE121AD87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ified Modeling Language (Egységesített Modellező Nyel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nyelv: szintaktikai és szemantikai szabályok összes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oftverrendszer elemein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zualizálására   (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Grafik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ecifikál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étrehoz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kumentál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vatalos oldal: http://www.um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B898-6B5C-40D5-9BA1-8C0657930B6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 osztály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fikus szemléltetésre különböző diagramok készíthetők, ezek egyike az osztály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emei: osztályok, interfészek, csomagok, megjegyz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pcsolat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szoci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ggreg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pozí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E2F3-4235-4D8F-A03C-AAE51EA773B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3994200" y="3573360"/>
            <a:ext cx="2276280" cy="23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A kabinet modellje"/>
          <p:cNvPicPr/>
          <p:nvPr/>
        </p:nvPicPr>
        <p:blipFill>
          <a:blip r:embed="rId2"/>
          <a:stretch/>
        </p:blipFill>
        <p:spPr>
          <a:xfrm>
            <a:off x="6372360" y="3084480"/>
            <a:ext cx="22683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sszoci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ok közötti kétirányú összekött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ati kapcsolat” - létük egymástól  általában független, de legalább az egyik ismeri és/vagy használja a mási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ilag az egyik osztály használja a másikat (vagy egy metódusát, 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szociáció lehet egy- vagy kétirány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hatunk nevet az asszociáció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szociációs osztál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szociáció, kapcsolat részle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798C-8536-4E3D-A21B-7FB827FA1E9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sszoci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F94-8113-443A-A993-08D278F122D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Asszociáció"/>
          <p:cNvPicPr/>
          <p:nvPr/>
        </p:nvPicPr>
        <p:blipFill>
          <a:blip r:embed="rId1"/>
          <a:stretch/>
        </p:blipFill>
        <p:spPr>
          <a:xfrm>
            <a:off x="636480" y="2133720"/>
            <a:ext cx="7874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ggreg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ész-egész kapcso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gyik objektum fizikailag tartalmazza a mási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ész-objektum(ok) léte az egész-objektumtól fü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féle leh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enge aggreg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ős aggregáció ( = kompozíci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E8B1-12F2-406F-A1A2-46AD5AE173A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yenge aggreg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peciális asszociác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tartalmazó létezhet a tartalmazott nélkül is (pl.: Alma, Kuka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ik objektum része a másikn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 erős tartalmaz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C996-5DC6-4C36-BFB4-46D04374C6E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Példa gyenge aggregációra"/>
          <p:cNvPicPr/>
          <p:nvPr/>
        </p:nvPicPr>
        <p:blipFill>
          <a:blip r:embed="rId1"/>
          <a:stretch/>
        </p:blipFill>
        <p:spPr>
          <a:xfrm>
            <a:off x="2124000" y="3933720"/>
            <a:ext cx="48103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mpozí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izikai tartalmazás (erős aggregáci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eciális aggreg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artalmazott nélkül nem létezhet a tartalmazó osztály (pl. Ember, Fe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E4A7-399A-482B-A763-0CF55F0E775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élda kompozícióra"/>
          <p:cNvPicPr/>
          <p:nvPr/>
        </p:nvPicPr>
        <p:blipFill>
          <a:blip r:embed="rId1"/>
          <a:stretch/>
        </p:blipFill>
        <p:spPr>
          <a:xfrm>
            <a:off x="2124000" y="3860640"/>
            <a:ext cx="4741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ok közötti kapcsolat (reláció), ahol egy osztály megosztja a struktúráját és/vagy a viselkedését egy vagy több másik osztáll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röklődési hierarc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rmaztatott (gyerek) osztály mindent örököl az őstől és kiegészítheti ezeket saját adatokkal/viselkedé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Ősosztály: 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erekosztályok: Almafa, Körtefa, Szilva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6FD-3F30-495D-88E1-A8776D2204A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gyerek mindent örököl az őstől, de ezen felül tartalmazhat más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verriding (felüldefiniálás): az örökölt operáció saját implement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gyis „még egyszer implementáljuk” az adott operációt a gyerekosztályo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limorf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bbszörös öröklődés Javaban ninc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37E-13BA-4D70-BB9D-6609DC3CDDE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izuális 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gramoz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llezés és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plementálás (kódol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kumentálás és teszt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tervezetlen programozás sosem vezet jóra, főleg nagy, bonyolultabb rendszereknél 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vezés hiánya garantált kudar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vezésnek mindig meg kell előznie az implementálá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640F-2190-4F34-B9C6-4E5A4DC9837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9" descr="Példa örökl&amp;odblac;désre"/>
          <p:cNvPicPr/>
          <p:nvPr/>
        </p:nvPicPr>
        <p:blipFill>
          <a:blip r:embed="rId1"/>
          <a:stretch/>
        </p:blipFill>
        <p:spPr>
          <a:xfrm>
            <a:off x="3564000" y="1700280"/>
            <a:ext cx="5124240" cy="3152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talán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zonyos osztályok közös tulajdonságai alapján egy új osztály létreh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ecializ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osztály speciális esete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B60B-BA34-4DDC-856B-827E9722014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bbszörös 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614840"/>
          </a:xfrm>
          <a:prstGeom prst="rect">
            <a:avLst/>
          </a:prstGeom>
          <a:ln w="0">
            <a:noFill/>
          </a:ln>
        </p:spPr>
      </p:pic>
      <p:sp>
        <p:nvSpPr>
          <p:cNvPr id="197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AED9-39B0-4CAA-AF9D-BA069C5F8B2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Példa többszörös örökl&amp;odblac;désre"/>
          <p:cNvPicPr/>
          <p:nvPr/>
        </p:nvPicPr>
        <p:blipFill>
          <a:blip r:embed="rId2"/>
          <a:stretch/>
        </p:blipFill>
        <p:spPr>
          <a:xfrm>
            <a:off x="611280" y="1844640"/>
            <a:ext cx="7861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 Osztálydiagram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6792-8AC0-4333-93DF-369B641A7EC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7235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 Osztálydiagram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1238-6D61-467D-8A1C-B946F274706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123920" y="1197000"/>
            <a:ext cx="6480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sztályok közötti kapcsolatok – implementációs példá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szoci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 egy metódusának paramétere B típus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 egy metódusa hívja B egy metódus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 egy metódusa (lokálisan) példányosítja B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 egy metódusának visszatérési értéke B típus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ggreg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osztály tartalmaz egy B-re mutató pointert/referenciá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pozí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osztály tartalmaz egy B adattag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osztály B osztályból származ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582E-6FFF-49F9-9EB8-48212F56FCE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 Eszköz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rgo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argouml.tigri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O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www.bouml.f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www.yworks.com/en/products_yed_abou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lif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s://www.gliff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ML Eszközök listá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en.wikipedia.org/wiki/List_of_UML_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A00C-5117-46BB-A356-3C1F910D561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odellezd a bankkártyás fizeté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odellben szerepeljenek a következő osztály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mé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árt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minál ( két fajta: automata és PO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amint a közöttük lévő kapcsolat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7DBE-DCB9-4D68-A1D1-934D199D176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izuális 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bványos grafikai eszközökkel írjuk le a problém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élja: Jobban átlátható legyen a program felép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ozásban nem jártas emberek is megértsék a rendszer működés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bák jelentős része itt felfedezhető, és gyorsan javítható, komolyabb mellékhatás nélkül (Ellenben egy félkész/kész program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85B8-5809-4948-9A9E-BE08C73082E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odell é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odel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A teljes rendszer leírása, amely magába foglalja a rendszer teljes életciklusát (tervezés, implementálás, dokumentáció, tesztel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A rendszer egy részének (vagy egészének) vizuális reprezent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sztálydiagra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Osztályok vizuális reprezent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ML nye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534-723A-4856-9DA4-7B1D07CD458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orientált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Objekt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Egy valós vagy elképzelt entitás ábrázolása számítógépen, mely minden esetben rendelkez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pot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elkedé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entitás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hát az objektum lehet bármi, ami rendelkezik ezzel a három tulajdonság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ítógé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mé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9068-0DAC-43CE-B3DE-61D42AF29E2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 állap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bjektum állapot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egy a lehetséges létezési lehetőségek közül (aktuális tulajdonságok által meghatároz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ben változó le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tribútumok határozzá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n egy lámpa, ami ki vagy be van kapcso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ott egy személy, akinek van n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ott egy bor, ami fehér vagy vörö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az attribútumok a programozásban lehetnek különböző típusú változók valamilyen értékk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: adott egy Bor objektum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tring tip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9F06-4580-46B9-9B4F-EFA5F3627B2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 viselked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nak módja, hogyan reagál más objektumok kérése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bjektum kérésre csinál „valam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t definiál, amit az objektum csinál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perációk (metódusok) határozzá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yúl típusú objektumnak lehetnek „ugrik” és „eszik” operáció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Lámpa típusú objektumnak lehetnek „bekapcsol”, „kikapcsol”, „elromlik” operáció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EF74-B30F-4665-AFDD-5271F9E0F0E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 identi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objektum egyedi ! (még akkor is, ha az állapotuk azon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rogramoza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lgoritmus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ülönböző objektumok, de mindkettő Kurzus (ugyanabba az osztályba tartozn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orpeNyu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ngolNyu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ülönböző objektumok, de mindkettő Nyú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A6E9-694F-482B-AE7D-6662E4D9755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írás objektumok csoportjához, melyeknek közösek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tribútumai, operáció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 objektumokkal való kapcsolat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elkedés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ztály az objektum típ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omagok (pack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sztályok csomagokba rendezhetők, hierarchik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993F-F158-4D77-A1B0-A6599B19749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02-20T09:46:17Z</dcterms:modified>
  <cp:revision>100</cp:revision>
  <dc:subject/>
  <dc:title>1. dia</dc:title>
</cp:coreProperties>
</file>